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835D-3864-4C26-95E2-A0CBAF19A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59CF-D8D2-4503-A654-90D87596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1083-36EF-4F22-8B6E-689119899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846E-E399-402A-B556-51BEC7577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046B-3829-4EBF-B764-2060DE54C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43A1-062E-4BF1-BFD1-053A6504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D123-840A-42A6-AA98-4DD55EB7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C6A0-9265-4399-809A-6EA6D116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F8CFE-D640-4312-A987-82B44211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F1C6-D38D-48D2-AFD9-583B210F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43F3-0F91-4A8B-A5D9-F4CB9298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FBDC-739C-4224-BDAF-4673CC49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F361-AF94-46FD-94C6-E0771AB2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2541-4A7A-4D75-B613-FC907DAD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9105-EF71-4D56-B72C-97EF6881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A15E-D578-47B9-B9DB-82BD0AFA2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852A-F794-4559-A2D6-8D59956CD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1473-899F-43CC-AD54-4C0C8525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C23B-E93E-4DEB-B557-7E63AEB8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BB36-C7F9-4F7F-9E84-7C0560F5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9D89-BE5E-4A99-980D-E3976B86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90C1-37C0-4016-BF23-4B4858F1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3C46-1F1F-40FA-91F4-661F3B57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B60C-4513-473F-B8B1-7637EED6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6200" cy="1511280"/>
            <a:chOff x="4716360" y="5345280"/>
            <a:chExt cx="4426200" cy="151128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6200" cy="151128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4760" y="6371280"/>
              <a:ext cx="18360" cy="280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5040" y="6342480"/>
              <a:ext cx="936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1680" y="5678280"/>
              <a:ext cx="482400" cy="117468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6240" y="5640120"/>
              <a:ext cx="498240" cy="121608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0280" y="5868360"/>
              <a:ext cx="435960" cy="98784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7680" y="5887440"/>
              <a:ext cx="337680" cy="96876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000" y="6247440"/>
              <a:ext cx="264600" cy="60876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080" y="6380640"/>
              <a:ext cx="263160" cy="47556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6400" y="6409080"/>
              <a:ext cx="375840" cy="44712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1640" y="6485040"/>
              <a:ext cx="311040" cy="37116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7720" y="6456960"/>
              <a:ext cx="301320" cy="39924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080" y="6647040"/>
              <a:ext cx="364680" cy="20916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1920" y="6694560"/>
              <a:ext cx="141120" cy="16164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1200" y="5345280"/>
              <a:ext cx="441000" cy="151128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18A01B-DFFC-42BC-A602-4A4D76A8456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1240" indent="-2840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6200" cy="1511280"/>
            <a:chOff x="4716360" y="5345280"/>
            <a:chExt cx="4426200" cy="151128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6200" cy="151128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4760" y="6371280"/>
              <a:ext cx="18360" cy="280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5040" y="6342480"/>
              <a:ext cx="936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1680" y="5678280"/>
              <a:ext cx="482400" cy="117468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6240" y="5640120"/>
              <a:ext cx="498240" cy="121608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0280" y="5868360"/>
              <a:ext cx="435960" cy="98784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7680" y="5887440"/>
              <a:ext cx="337680" cy="96876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000" y="6247440"/>
              <a:ext cx="264600" cy="60876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080" y="6380640"/>
              <a:ext cx="263160" cy="47556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6400" y="6409080"/>
              <a:ext cx="375840" cy="44712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1640" y="6485040"/>
              <a:ext cx="311040" cy="37116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7720" y="6456960"/>
              <a:ext cx="301320" cy="39924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080" y="6647040"/>
              <a:ext cx="364680" cy="20916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1920" y="6694560"/>
              <a:ext cx="141120" cy="16164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1200" y="5345280"/>
              <a:ext cx="441000" cy="151128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096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CF10BC8-A581-4680-AE32-0CF3A3A11C4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1240" indent="-2840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004760"/>
            <a:ext cx="7772400" cy="24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100" spc="-1" strike="noStrike">
                <a:solidFill>
                  <a:srgbClr val="ffffcc"/>
                </a:solidFill>
                <a:latin typeface="Arial"/>
              </a:rPr>
              <a:t>Надёжность программного обеспечения…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и модели надёжности…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fade/>
    <p:sndAc>
      <p:stSnd>
        <p:snd r:embed="rId1" name="typ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eaeaea"/>
                </a:solidFill>
                <a:latin typeface="Verdana"/>
              </a:rPr>
              <a:t>Мы можем и должны стремиться повышать уровень надежности ПИ, но достижение 100% надежности лежит за пределом возможного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eaeaea"/>
                </a:solidFill>
                <a:latin typeface="Verdana"/>
              </a:rPr>
              <a:t>Причиной ошибок в ПИ является нарушение правильности перевода информации из одного представления в другое. Создание ПИ рассматривается как совокупность процессов перевода информации из одной формы представления в другую, с фиксацией множества промежуточных решений с участием специалистов различного профиля и квалификаций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eaeaea"/>
                </a:solidFill>
                <a:latin typeface="Verdana"/>
              </a:rPr>
              <a:t>Кроме того, необходимо учитывать возможность взаимного перекрытия процессов и наличие циклов обратной связи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fade/>
    <p:sndAc>
      <p:stSnd>
        <p:snd r:embed="rId1" name="typ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апример ошибки, сделанные в процессе проектирования можно обнаружить при программировании. Тогда возникает необходимость возврата к предыдущему этапу и устранении ошибок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азнообразие и сложность видов деятельности в процессе создания ПИ приводит к появлению множества различных типов ошибок, которые нуждаются в систематизаци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риведенная ниже классификация программных ошибок по категориям основана на эмпирических данных, полученных при разработке различных ПИ. Под категорией ошибок понимают видовое описание ошибок конкретных типов. В полной классификации выделено более 160 категорий объединенных в 20 классов.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fade/>
    <p:sndAc>
      <p:stSnd>
        <p:snd r:embed="rId1" name="typ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2376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Классы программных ошибок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57200" y="533520"/>
            <a:ext cx="8227800" cy="5962320"/>
            <a:chOff x="457200" y="533520"/>
            <a:chExt cx="8227800" cy="5962320"/>
          </a:xfrm>
        </p:grpSpPr>
        <p:sp>
          <p:nvSpPr>
            <p:cNvPr id="145" name=""/>
            <p:cNvSpPr/>
            <p:nvPr/>
          </p:nvSpPr>
          <p:spPr>
            <a:xfrm>
              <a:off x="3732480" y="5369760"/>
              <a:ext cx="4951080" cy="112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eaeaea"/>
                  </a:solidFill>
                  <a:latin typeface="Verdana"/>
                </a:rPr>
                <a:t>Ошибки манипулирования данными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eaeaea"/>
                  </a:solidFill>
                  <a:latin typeface="Verdana"/>
                </a:rPr>
                <a:t>Данные потеряны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04400" y="5369760"/>
              <a:ext cx="1828080" cy="112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Verdana"/>
                </a:rPr>
                <a:t>DD030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200" y="5369760"/>
              <a:ext cx="1447200" cy="112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800" spc="-1" strike="noStrike">
                  <a:solidFill>
                    <a:srgbClr val="eaeaea"/>
                  </a:solidFill>
                  <a:latin typeface="Verdana"/>
                </a:rPr>
                <a:t>DD000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32480" y="4598280"/>
              <a:ext cx="495108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eaeaea"/>
                  </a:solidFill>
                  <a:latin typeface="Verdana"/>
                </a:rPr>
                <a:t>Ошибки ввода вывода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eaeaea"/>
                  </a:solidFill>
                  <a:latin typeface="Verdana"/>
                </a:rPr>
                <a:t>Информация не выводится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04400" y="4598280"/>
              <a:ext cx="182808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eaeaea"/>
                  </a:solidFill>
                  <a:latin typeface="Verdana"/>
                </a:rPr>
                <a:t>СС010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7200" y="4598280"/>
              <a:ext cx="144720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eaeaea"/>
                  </a:solidFill>
                  <a:latin typeface="Verdana"/>
                </a:rPr>
                <a:t>СС000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32480" y="3351240"/>
              <a:ext cx="4951080" cy="12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eaeaea"/>
                  </a:solidFill>
                  <a:latin typeface="Verdana"/>
                </a:rPr>
                <a:t>Логические ошибки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eaeaea"/>
                  </a:solidFill>
                  <a:latin typeface="Verdana"/>
                </a:rPr>
                <a:t>Ошибка в определении границ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eaeaea"/>
                  </a:solidFill>
                  <a:latin typeface="Verdana"/>
                </a:rPr>
                <a:t>Логически неверное ветвление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04400" y="3351240"/>
              <a:ext cx="1828080" cy="12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eaeaea"/>
                  </a:solidFill>
                  <a:latin typeface="Verdana"/>
                </a:rPr>
                <a:t>ВВ101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eaeaea"/>
                  </a:solidFill>
                  <a:latin typeface="Verdana"/>
                </a:rPr>
                <a:t>ВВ020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200" y="3351240"/>
              <a:ext cx="1447200" cy="12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eaeaea"/>
                  </a:solidFill>
                  <a:latin typeface="Verdana"/>
                </a:rPr>
                <a:t>ВВ000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32480" y="2892600"/>
              <a:ext cx="4951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eaeaea"/>
                  </a:solidFill>
                  <a:latin typeface="Verdana"/>
                </a:rPr>
                <a:t>Ошибка в вычислении индекса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04400" y="2892600"/>
              <a:ext cx="182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eaeaea"/>
                  </a:solidFill>
                  <a:latin typeface="Verdana"/>
                </a:rPr>
                <a:t>АА020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32480" y="2192760"/>
              <a:ext cx="49510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eaeaea"/>
                  </a:solidFill>
                  <a:latin typeface="Verdana"/>
                </a:rPr>
                <a:t>Неверно определено общее число элементов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04400" y="2192760"/>
              <a:ext cx="18280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eaeaea"/>
                  </a:solidFill>
                  <a:latin typeface="Verdana"/>
                </a:rPr>
                <a:t>АА010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32480" y="1675800"/>
              <a:ext cx="495108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eaeaea"/>
                  </a:solidFill>
                  <a:latin typeface="Verdana"/>
                </a:rPr>
                <a:t>Ошибки вычислений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04400" y="1675800"/>
              <a:ext cx="182808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7200" y="1675800"/>
              <a:ext cx="1447200" cy="16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eaeaea"/>
                  </a:solidFill>
                  <a:latin typeface="Verdana"/>
                </a:rPr>
                <a:t>АА000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04400" y="1142640"/>
              <a:ext cx="18280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eaeaea"/>
                  </a:solidFill>
                  <a:latin typeface="Verdana"/>
                </a:rPr>
                <a:t>категория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" y="1142640"/>
              <a:ext cx="14472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eaeaea"/>
                  </a:solidFill>
                  <a:latin typeface="Verdana"/>
                </a:rPr>
                <a:t>класс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32480" y="533520"/>
              <a:ext cx="4951080" cy="114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eaeaea"/>
                  </a:solidFill>
                  <a:latin typeface="Verdana"/>
                </a:rPr>
                <a:t>Наименование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200" y="533520"/>
              <a:ext cx="327528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eaeaea"/>
                  </a:solidFill>
                  <a:latin typeface="Verdana"/>
                </a:rPr>
                <a:t>Идентификатор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7200" y="533520"/>
              <a:ext cx="8226720" cy="108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7200" y="1142640"/>
              <a:ext cx="3275280" cy="108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57200" y="1675800"/>
              <a:ext cx="8226720" cy="108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7200" y="3351240"/>
              <a:ext cx="8226720" cy="144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4598280"/>
              <a:ext cx="8226720" cy="144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5369760"/>
              <a:ext cx="8226720" cy="108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6494760"/>
              <a:ext cx="8226720" cy="108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533520"/>
              <a:ext cx="1080" cy="596124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2480" y="533520"/>
              <a:ext cx="1080" cy="596124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683920" y="533520"/>
              <a:ext cx="1080" cy="596124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04400" y="1142640"/>
              <a:ext cx="1080" cy="535176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04400" y="2192760"/>
              <a:ext cx="6779160" cy="144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04400" y="2892600"/>
              <a:ext cx="6779160" cy="108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p:transition spd="med">
    <p:fade/>
    <p:sndAc>
      <p:stSnd>
        <p:snd r:embed="rId1" name="typ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ри сборке и анализе данных об ошибках программы следует придерживаться следующих правил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Если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 общее число,    к- известное число, т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а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Verdana"/>
              </a:rPr>
              <a:t>i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–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ероятность  при тестировании ошибки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-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го тип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этой модели вероятность а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Verdana"/>
              </a:rPr>
              <a:t>i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должна оцениваться на основании информации или данные предшествующего периода функционирования однотипных программных средств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286000" y="1566720"/>
                <a:ext cx="4648320" cy="198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eqArr>
                      <m:e>
                        <m:d>
                          <m:dPr>
                            <m:begChr m:val="{"/>
                            <m:endChr m:val="}"/>
                          </m:dPr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fade/>
    <p:sndAc>
      <p:stSnd>
        <p:snd r:embed="rId1" name="typ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Ошибки программ по категориям и вероятность их появле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52280" y="1600200"/>
            <a:ext cx="8837280" cy="4900320"/>
            <a:chOff x="152280" y="1600200"/>
            <a:chExt cx="8837280" cy="4900320"/>
          </a:xfrm>
        </p:grpSpPr>
        <p:sp>
          <p:nvSpPr>
            <p:cNvPr id="183" name=""/>
            <p:cNvSpPr/>
            <p:nvPr/>
          </p:nvSpPr>
          <p:spPr>
            <a:xfrm>
              <a:off x="6115680" y="5932800"/>
              <a:ext cx="287244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eaeaea"/>
                  </a:solidFill>
                  <a:latin typeface="Verdana"/>
                </a:rPr>
                <a:t>0,06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80360" y="5932800"/>
              <a:ext cx="413532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eaeaea"/>
                  </a:solidFill>
                  <a:latin typeface="Verdana"/>
                </a:rPr>
                <a:t>Ошибка в базе данных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2280" y="5932800"/>
              <a:ext cx="182808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eaeaea"/>
                  </a:solidFill>
                  <a:latin typeface="Verdana"/>
                </a:rPr>
                <a:t>7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15680" y="5367960"/>
              <a:ext cx="287244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eaeaea"/>
                  </a:solidFill>
                  <a:latin typeface="Verdana"/>
                </a:rPr>
                <a:t>0,08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80360" y="5367960"/>
              <a:ext cx="413532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eaeaea"/>
                  </a:solidFill>
                  <a:latin typeface="Verdana"/>
                </a:rPr>
                <a:t>Ошибка определения данных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2280" y="5367960"/>
              <a:ext cx="18280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eaeaea"/>
                  </a:solidFill>
                  <a:latin typeface="Verdana"/>
                </a:rPr>
                <a:t>6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15680" y="4801680"/>
              <a:ext cx="287244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eaeaea"/>
                  </a:solidFill>
                  <a:latin typeface="Verdana"/>
                </a:rPr>
                <a:t>0,17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80360" y="4801680"/>
              <a:ext cx="413532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eaeaea"/>
                  </a:solidFill>
                  <a:latin typeface="Verdana"/>
                </a:rPr>
                <a:t>Ошибка сопряжения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52280" y="4801680"/>
              <a:ext cx="182808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eaeaea"/>
                  </a:solidFill>
                  <a:latin typeface="Verdana"/>
                </a:rPr>
                <a:t>5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15680" y="4101840"/>
              <a:ext cx="287244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eaeaea"/>
                  </a:solidFill>
                  <a:latin typeface="Verdana"/>
                </a:rPr>
                <a:t>0,18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80360" y="4101840"/>
              <a:ext cx="413532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eaeaea"/>
                  </a:solidFill>
                  <a:latin typeface="Verdana"/>
                </a:rPr>
                <a:t>Ошибка манипулирования данными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2280" y="4101840"/>
              <a:ext cx="182808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eaeaea"/>
                  </a:solidFill>
                  <a:latin typeface="Verdana"/>
                </a:rPr>
                <a:t>4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15680" y="3535560"/>
              <a:ext cx="287244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eaeaea"/>
                  </a:solidFill>
                  <a:latin typeface="Verdana"/>
                </a:rPr>
                <a:t>0,16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980360" y="3535560"/>
              <a:ext cx="413532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eaeaea"/>
                  </a:solidFill>
                  <a:latin typeface="Verdana"/>
                </a:rPr>
                <a:t>Ошибка ввода\вывода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2280" y="3535560"/>
              <a:ext cx="182808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eaeaea"/>
                  </a:solidFill>
                  <a:latin typeface="Verdana"/>
                </a:rPr>
                <a:t>3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15680" y="2970720"/>
              <a:ext cx="287244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eaeaea"/>
                  </a:solidFill>
                  <a:latin typeface="Verdana"/>
                </a:rPr>
                <a:t>0,26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80360" y="2970720"/>
              <a:ext cx="413532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eaeaea"/>
                  </a:solidFill>
                  <a:latin typeface="Verdana"/>
                </a:rPr>
                <a:t>Логическая ошибка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2280" y="2970720"/>
              <a:ext cx="18280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eaeaea"/>
                  </a:solidFill>
                  <a:latin typeface="Verdana"/>
                </a:rPr>
                <a:t>2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15680" y="2420280"/>
              <a:ext cx="2872440" cy="55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eaeaea"/>
                  </a:solidFill>
                  <a:latin typeface="Verdana"/>
                </a:rPr>
                <a:t>0,09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80360" y="2420280"/>
              <a:ext cx="4135320" cy="55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eaeaea"/>
                  </a:solidFill>
                  <a:latin typeface="Verdana"/>
                </a:rPr>
                <a:t>Ошибка вычисления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2280" y="2420280"/>
              <a:ext cx="1828080" cy="55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eaeaea"/>
                  </a:solidFill>
                  <a:latin typeface="Verdana"/>
                </a:rPr>
                <a:t>1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15680" y="1600200"/>
              <a:ext cx="287244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eaeaea"/>
                  </a:solidFill>
                  <a:latin typeface="Verdana"/>
                </a:rPr>
                <a:t>Вероятность появления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80360" y="1600200"/>
              <a:ext cx="41353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eaeaea"/>
                  </a:solidFill>
                  <a:latin typeface="Verdana"/>
                </a:rPr>
                <a:t>Тип ошибки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52280" y="1600200"/>
              <a:ext cx="182808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eaeaea"/>
                  </a:solidFill>
                  <a:latin typeface="Verdana"/>
                </a:rPr>
                <a:t>№ </a:t>
              </a:r>
              <a:r>
                <a:rPr b="0" lang="ru-RU" sz="2400" spc="-1" strike="noStrike">
                  <a:solidFill>
                    <a:srgbClr val="eaeaea"/>
                  </a:solidFill>
                  <a:latin typeface="Verdana"/>
                </a:rPr>
                <a:t>ошибки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2280" y="1600200"/>
              <a:ext cx="8836200" cy="108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2280" y="2420280"/>
              <a:ext cx="8836200" cy="108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280" y="2970720"/>
              <a:ext cx="8836200" cy="108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2280" y="3535560"/>
              <a:ext cx="8836200" cy="108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2280" y="4101840"/>
              <a:ext cx="8836200" cy="144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2280" y="4801680"/>
              <a:ext cx="8836200" cy="108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52280" y="5367960"/>
              <a:ext cx="8836200" cy="144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2280" y="5932800"/>
              <a:ext cx="8836200" cy="108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2280" y="6499080"/>
              <a:ext cx="8836200" cy="144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2280" y="1600200"/>
              <a:ext cx="1440" cy="489888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80360" y="1600200"/>
              <a:ext cx="1440" cy="489888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15680" y="1600200"/>
              <a:ext cx="1080" cy="489888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988480" y="1600200"/>
              <a:ext cx="1080" cy="489888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p:transition spd="med">
    <p:fade/>
    <p:sndAc>
      <p:stSnd>
        <p:snd r:embed="rId1" name="typ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Аналитические модели надежност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Аналитическое моделирование включает 4 этапа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пределение предположений, связанных с процедурой  тестирования программных средств (ПС)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азработка или выбор аналитической модели, базирующийся на предположениях о процедуре тестировани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ыбор параметров модели с использованием полученных данных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рименение модели- расчет количественных показателей.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fade/>
    <p:sndAc>
      <p:stSnd>
        <p:snd r:embed="rId1" name="type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4582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Динамические модел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Модель Шуман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сходные данные для модели Шумана, которые относятся к динамическим моделям дискретного времени, собираются в процессе тестирования ПС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аждый интервал- стадия, на которой выполняется последовательность теста и фиксируется некоторое число ошибок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Модель Шумана может быть использована определенным образом при организационной процедуре тестирования. Используемая модель предполагает, что тест проводится в несколько этапов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fade/>
    <p:sndAc>
      <p:stSnd>
        <p:snd r:embed="rId1" name="type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аждый этап представляет собой выполнение программы на полном комплексе разработанных тестовых данных. Выявленные ошибки регистрируются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ри завершении этапа на основе собранных данных о поведениях ПС на очередном этапе тестирования может быть использована модель Шумана для расчета количественных показателей надежност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осле этого исправляются ошибки, обнаруженные на предыдущем этапе, корректируются тестовые наборы и проводится новый этап тестирования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fade/>
    <p:sndAc>
      <p:stSnd>
        <p:snd r:embed="rId1" name="typ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ри использовании модели Шумана предполагается, что исходное количество ошибок в программе постоянно и в процессе тестирования может уменьшаться, по мере того, как ошибки находятся и исправляются. Новые ошибки при корректировке не вносятся. Скорость обнаружения ошибок пропорциональна числу оставшихся ошибок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бщее число машинных инструкций в рамках одного этапа тестирования постоянно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fade/>
    <p:sndAc>
      <p:stSnd>
        <p:snd r:embed="rId1" name="typ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ff5050"/>
                </a:solidFill>
                <a:latin typeface="Verdana"/>
              </a:rPr>
              <a:t>Надежность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-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войство программного изделия(ПИ) сохранять работоспособность в течении определенного периода времени, в определенных условиях эксплуатации с учетом последствий для пользователя каждого отказ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3172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31720" indent="-53172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ff5050"/>
                </a:solidFill>
                <a:latin typeface="Verdana"/>
              </a:rPr>
              <a:t>Работоспособным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-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азывается такое состояние ПИ, при котором оно способно выполнять задания функции с параметрами, установленными требованиями технического задания(ТЗ)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3172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3172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31720" indent="-53172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 переходом ПИ в не работоспособное состояние связано событие </a:t>
            </a:r>
            <a:r>
              <a:rPr b="1" lang="ru-RU" sz="2400" spc="-1" strike="noStrike">
                <a:solidFill>
                  <a:srgbClr val="ff5050"/>
                </a:solidFill>
                <a:latin typeface="Verdana"/>
              </a:rPr>
              <a:t>отказа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.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fade/>
    <p:sndAc>
      <p:stSnd>
        <p:snd r:embed="rId1" name="typ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ec85e"/>
                </a:solidFill>
                <a:latin typeface="Verdana"/>
              </a:rPr>
              <a:t>Причины отказа систем различны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 отличие от технических узлов и систем, ПИ </a:t>
            </a:r>
            <a:r>
              <a:rPr b="0" lang="ru-RU" sz="2800" spc="-1" strike="noStrike">
                <a:solidFill>
                  <a:srgbClr val="ff5050"/>
                </a:solidFill>
                <a:latin typeface="Verdana"/>
              </a:rPr>
              <a:t>не подвержены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физическому износу, моральный же износ для них не может являться причиной нарушения работоспособност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ричиной отказа ПИ является </a:t>
            </a:r>
            <a:r>
              <a:rPr b="0" lang="ru-RU" sz="2800" spc="-1" strike="noStrike">
                <a:solidFill>
                  <a:srgbClr val="ff5050"/>
                </a:solidFill>
                <a:latin typeface="Verdana"/>
              </a:rPr>
              <a:t>невозможность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его полной проверки в процессе тестирования и испытания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ботоспособность ПИ зависит от входной информации и чем   </a:t>
            </a:r>
            <a:r>
              <a:rPr b="0" lang="ru-RU" sz="2800" spc="-1" strike="noStrike">
                <a:solidFill>
                  <a:srgbClr val="ff5050"/>
                </a:solidFill>
                <a:latin typeface="Verdana"/>
              </a:rPr>
              <a:t>меньше  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эта </a:t>
            </a:r>
            <a:r>
              <a:rPr b="0" lang="ru-RU" sz="2800" spc="-1" strike="noStrike">
                <a:solidFill>
                  <a:srgbClr val="ff5050"/>
                </a:solidFill>
                <a:latin typeface="Verdana"/>
              </a:rPr>
              <a:t>зависимость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,тем </a:t>
            </a:r>
            <a:r>
              <a:rPr b="0" lang="ru-RU" sz="2800" spc="-1" strike="noStrike">
                <a:solidFill>
                  <a:srgbClr val="ff5050"/>
                </a:solidFill>
                <a:latin typeface="Verdana"/>
              </a:rPr>
              <a:t>выше надёжность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fade/>
    <p:sndAc>
      <p:stSnd>
        <p:snd r:embed="rId1" name="typ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9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Для оценки надежности используются 3 группы показателей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ачественны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орядковы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оличественны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12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12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1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1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1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ассмотрим основные количественные показатели надежности ПИ…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fade/>
    <p:sndAc>
      <p:stSnd>
        <p:snd r:embed="rId1" name="typ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ероятность безотказной работы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8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где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случайное время работы ПИ до отказа. Это вероятность того, что в пределах заданной наработки отказ не возникает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8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8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Verdana"/>
              </a:rPr>
              <a:t>Наработк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- продолжительность или скорость работы,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где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8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</a:t>
            </a:r>
            <a:r>
              <a:rPr b="0" lang="ru-RU" sz="2000" spc="-1" strike="noStrike" baseline="-25000">
                <a:solidFill>
                  <a:srgbClr val="eaeaea"/>
                </a:solidFill>
                <a:latin typeface="Verdana"/>
              </a:rPr>
              <a:t>3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- заданная наработк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8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2. Вероятность отказа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8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8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8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ероятность того, что в пределах заданной наработки отказ возникает, это показатель обратный предыдущему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8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8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438280" y="609480"/>
                <a:ext cx="31244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572000" y="3505320"/>
                <a:ext cx="373392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/>
    <p:sndAc>
      <p:stSnd>
        <p:snd r:embed="rId1" name="typ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74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3. Интенсивность отказа систем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8040" indent="0"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8040" indent="0"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8040" indent="0"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Условная плотность вероятности возникновения отказа ПИ в определенный момент времени при условии, что до этого времени отказ не возник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8040" indent="0"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(t)-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лотность вероятности отказа в момент времени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8040" indent="0"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уществует связь между         и          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8040" indent="0"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8040" indent="0"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8040" indent="0"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8040" indent="0"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8040" indent="0"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514600" y="609480"/>
                <a:ext cx="266688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85800" y="1905120"/>
                <a:ext cx="73915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038480" y="4735440"/>
                <a:ext cx="91440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334120" y="4724280"/>
                <a:ext cx="8380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888840" y="5580000"/>
                <a:ext cx="739152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=e</m:t>
                        </m:r>
                      </m:e>
                      <m:sup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λ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 spd="med">
    <p:fade/>
    <p:sndAc>
      <p:stSnd>
        <p:snd r:embed="rId1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Если в процессе тестирования фиксируется число отказов за определённый временной интервал, то </a:t>
            </a:r>
            <a:r>
              <a:rPr b="0" lang="el-GR" sz="2400" spc="-1" strike="noStrike">
                <a:solidFill>
                  <a:srgbClr val="eaeaea"/>
                </a:solidFill>
                <a:latin typeface="Verdana"/>
              </a:rPr>
              <a:t>λ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)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число отказов в единицу времени.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4. Средняя наработка до отказ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Это мат. ожидание времени работы ПИ до очередного отказ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 время работы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И от к-1 до к-го отказ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наче среднюю наработку на отказ можно представить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i-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ремя работы ПИ между отказами; а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-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ол-во отказов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04920" y="2511360"/>
                <a:ext cx="2590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cons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572000" y="2386080"/>
                <a:ext cx="220968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=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λt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295280" y="4876920"/>
                <a:ext cx="624852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i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 spd="med">
    <p:fade/>
    <p:sndAc>
      <p:stSnd>
        <p:snd r:embed="rId1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5. Среднее время восстановлени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7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7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7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7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Мат ожидание времени восстановления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Verdana"/>
              </a:rPr>
              <a:t>bi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т.е. время затраченного на обнаружение и локализацию отказов, времени устранения отказа и времени пропускной проверки работоспособност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Verdana"/>
              </a:rPr>
              <a:t>bi</a:t>
            </a:r>
            <a:r>
              <a:rPr b="0" lang="ru-RU" sz="2400" spc="-1" strike="noStrike" baseline="-25000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среднее время восстановления;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-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кол-во отказов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Для этого показателя термин «время» - это время, затраченное специалистом на перечисленные виды работ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024160" y="1599840"/>
            <a:ext cx="3284280" cy="2189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514600" y="914400"/>
                <a:ext cx="243828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i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 spd="med">
    <p:fade/>
    <p:sndAc>
      <p:stSnd>
        <p:snd r:embed="rId2" name="typ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6. Коэффициент готовност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ероятность того, что ПИ ожидается в работоспособном состоянии в произвольный момент времени по назначению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ричиной отказа ПИ являются ошибки которые могут быть вызваны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нутренним сбоем ПИ, реакцией ПИ на изменение внешней среды. Это значит, что даже при самом тщательном тестировании, если предположить, что удалось избавиться от всех внутренних ошибок, никогда нельзя с полной уверенностью утверждать, что отказ не возникнет.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024160" y="1599840"/>
            <a:ext cx="3284280" cy="2189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666880" y="533520"/>
                <a:ext cx="20574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T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T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/>
    <p:sndAc>
      <p:stSnd>
        <p:snd r:embed="rId2" name="typ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s31</cp:lastModifiedBy>
  <dcterms:modified xsi:type="dcterms:W3CDTF">2008-12-03T12:58:41Z</dcterms:modified>
  <cp:revision>1</cp:revision>
  <dc:subject/>
  <dc:title>PowerPoint Presentation</dc:title>
</cp:coreProperties>
</file>