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F01-E659-4400-A30C-DBABCD88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3E4-D374-4F86-BC8A-0A0E942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C1C-D055-48E8-9741-F551D0A8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D19-0756-4C6F-A7F1-2FF6B2F7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A2AA-83B7-4574-A367-A1ABC5C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993-45CA-4C79-A1F4-12CEFB9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E4E9-0EF7-49D1-BEF2-C07AF7A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4A06-03CC-4E2E-B27B-BC3547A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38DF-72DB-4170-B0C6-31B9219D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F2CA-17F1-4CC2-B77C-5C9FD551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E8F8-35A1-400C-BE3A-1B67AAC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229-2B6B-41C9-AB9C-0785415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53B8-9E3B-4E04-80C7-F6230F5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5D1-D8CC-4AB6-9FC9-DF298F8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55DF-BEDE-4E15-9721-EE9A726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1948-2041-4B4E-A192-BDED1805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EA0-4084-400A-98BB-4CC51BCE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C51-FF1D-400E-9481-EC4F202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B7F-C3B2-49A3-A19D-70BDD4D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264-793A-4224-A0D4-9E3ED00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E54-20DB-4DBF-99F1-00052C1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7AB-21B4-48EF-803D-5535D4A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A16-36C4-4FF5-86CD-2A5536C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C49-9052-4502-9BE3-8676BE2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AAA6-813B-424A-A8B3-E9BD7EB8A7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90D5-0469-48F5-8859-5E9C3594581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160" y="1920960"/>
            <a:ext cx="8821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схема_1.bmp"/>
          <p:cNvPicPr/>
          <p:nvPr/>
        </p:nvPicPr>
        <p:blipFill>
          <a:blip r:embed="rId2"/>
          <a:stretch/>
        </p:blipFill>
        <p:spPr>
          <a:xfrm>
            <a:off x="420840" y="853920"/>
            <a:ext cx="8369280" cy="553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программных средств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проверяемого объекта некоторому эталонному объекту или совокупности более или менее формализованных характеристик и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рректность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тепень соответствия исходных текстов программ формализованным правилам языков спецификаций и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Конструктив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соответствие им структуры общих правил структурного программирования и конкретным правилам оформления и внутренних построения программных модулей в данном зака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Функциональная корректность модулей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корректность обработки исходных данных и получение результат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данных определяется правилами их структурирования и упорядочи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данных связана в основном с конкретизацией их содержания в процессе использования программ, а также при подготовке данных внешним оппонент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руктивная корректность программных модулей определяется правилами структурного модульного построения программных комплексов и общими правилами организации межмодульных связ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составляющее может быть проверено формализованными автоматизированными метод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ункциональная корректность комплексов программ наиболее трудно формируется вследствие большого количества возможных эталонных значений и распредел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иболее сложном случае, для программ реального времени, можно разделить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рминированную корректность – должно быть обеспечено однозначное соответствие исходных и результирующих программ определяющее эталонное значе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охастическую корректность  – статическое соответствие распределений и результирующих случайных величин заданным эталонным распределениям при соответствующих распределениях исходных данн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ческую корректность – это соответствие изменяющихся во времени результатов использования программ эталонным данны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интаксический контроль корректности текстов программ</a:t>
            </a:r>
            <a:r>
              <a:rPr b="1" i="1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входного текста программы на соответствие синтаксису языка программир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Семантический контроль корректности текстов программ</a:t>
            </a:r>
            <a:r>
              <a:rPr b="0" lang="en-US" sz="22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 это проверка корректности применения и взаимодействия базовых конструкций языка программирования в тексте проверяемой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Формализованный структурный контроль программ основывается на статистической проверке соответствия структуры программы и последовательности основных операций использования памяти в системе эталонных прави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10082"/>
                </a:solidFill>
                <a:latin typeface="Times New Roman"/>
              </a:rPr>
              <a:t>Верификация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(подтверждение правильности) состоит в проверке и доказательстве корректности разработанной программы по отношению к совокупности формальных утверждений представленных программных спецификаций и полностью определяющем связи между входными и выходными данными програм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60520"/>
          </a:xfrm>
          <a:prstGeom prst="rect">
            <a:avLst/>
          </a:prstGeom>
          <a:ln w="0">
            <a:noFill/>
          </a:ln>
        </p:spPr>
      </p:pic>
      <p:pic>
        <p:nvPicPr>
          <p:cNvPr id="87" name="Организационная диаграмма 39" descr=""/>
          <p:cNvPicPr/>
          <p:nvPr/>
        </p:nvPicPr>
        <p:blipFill>
          <a:blip r:embed="rId2"/>
          <a:stretch/>
        </p:blipFill>
        <p:spPr>
          <a:xfrm>
            <a:off x="450720" y="762120"/>
            <a:ext cx="8242560" cy="556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511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480960" y="1127160"/>
            <a:ext cx="8242200" cy="518796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7"/>
          <p:cNvGrpSpPr/>
          <p:nvPr/>
        </p:nvGrpSpPr>
        <p:grpSpPr>
          <a:xfrm>
            <a:off x="6215040" y="5176800"/>
            <a:ext cx="1785960" cy="1181160"/>
            <a:chOff x="6215040" y="5176800"/>
            <a:chExt cx="1785960" cy="1181160"/>
          </a:xfrm>
        </p:grpSpPr>
        <p:sp>
          <p:nvSpPr>
            <p:cNvPr id="91" name="Скругленный прямоугольник 8"/>
            <p:cNvSpPr/>
            <p:nvPr/>
          </p:nvSpPr>
          <p:spPr>
            <a:xfrm>
              <a:off x="6215040" y="5214600"/>
              <a:ext cx="1785960" cy="1062360"/>
            </a:xfrm>
            <a:prstGeom prst="roundRect">
              <a:avLst>
                <a:gd name="adj" fmla="val 10000"/>
              </a:avLst>
            </a:prstGeom>
            <a:solidFill>
              <a:srgbClr val="6795c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Скругленный прямоугольник 4"/>
            <p:cNvSpPr/>
            <p:nvPr/>
          </p:nvSpPr>
          <p:spPr>
            <a:xfrm>
              <a:off x="6240240" y="5176800"/>
              <a:ext cx="173520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тклонение от эталон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Группа 15"/>
          <p:cNvGrpSpPr/>
          <p:nvPr/>
        </p:nvGrpSpPr>
        <p:grpSpPr>
          <a:xfrm>
            <a:off x="5616720" y="5673240"/>
            <a:ext cx="555480" cy="153360"/>
            <a:chOff x="5616720" y="5673240"/>
            <a:chExt cx="555480" cy="153360"/>
          </a:xfrm>
        </p:grpSpPr>
        <p:sp>
          <p:nvSpPr>
            <p:cNvPr id="94" name="Стрелка вниз 16"/>
            <p:cNvSpPr/>
            <p:nvPr/>
          </p:nvSpPr>
          <p:spPr>
            <a:xfrm rot="16196400">
              <a:off x="5817960" y="5472000"/>
              <a:ext cx="152640" cy="555480"/>
            </a:xfrm>
            <a:prstGeom prst="downArrow">
              <a:avLst>
                <a:gd name="adj1" fmla="val 50000"/>
                <a:gd name="adj2" fmla="val 25811"/>
              </a:avLst>
            </a:prstGeom>
            <a:solidFill>
              <a:srgbClr val="69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Стрелка вниз 4"/>
            <p:cNvSpPr/>
            <p:nvPr/>
          </p:nvSpPr>
          <p:spPr>
            <a:xfrm rot="5396400">
              <a:off x="5864040" y="5583240"/>
              <a:ext cx="604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615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7488360" cy="5832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71520" y="66600"/>
            <a:ext cx="8394480" cy="513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9" descr="схема_2.bmp"/>
          <p:cNvPicPr/>
          <p:nvPr/>
        </p:nvPicPr>
        <p:blipFill>
          <a:blip r:embed="rId2"/>
          <a:stretch/>
        </p:blipFill>
        <p:spPr>
          <a:xfrm>
            <a:off x="633240" y="493560"/>
            <a:ext cx="7944120" cy="615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7:27:54Z</dcterms:created>
  <dc:creator>Sergei</dc:creator>
  <dc:description/>
  <dc:language>en-US</dc:language>
  <cp:lastModifiedBy>vpi31</cp:lastModifiedBy>
  <dcterms:modified xsi:type="dcterms:W3CDTF">2008-10-31T14:37:53Z</dcterms:modified>
  <cp:revision>30</cp:revision>
  <dc:subject/>
  <dc:title>Корректность программных средств</dc:title>
</cp:coreProperties>
</file>