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C0C6-F5D2-494A-A8A2-089C312726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2871-7320-4229-A58D-AA1487C88F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E67F-9477-4A66-A709-3EBF01F7EF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E457-CC66-405C-B78A-D6723684DF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811-FBCA-413E-8E8C-11A5A9C9DE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0D8E-AA40-46F2-8451-A379A1EDE1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0034-91B0-4F41-9C56-34A1A85CA5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EADD-EBAE-4793-A108-C2A1DF369B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43C7-ED9C-4C5C-A25F-2BEFCCB6D8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C619-03D7-4DF3-8DE3-21D8BF6A4E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0EC4-A9AF-49AD-8565-90EE6DDBC1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5E98-13AB-44D2-B1F2-1BFFBEE4F5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138D-A573-4080-AD04-B33940B843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4A8A-9855-461A-ACAA-DD7308445D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9A5D-2A62-4F42-8D5C-ABA0D69B80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A430-3F13-41A6-B313-8FA0DFE2B6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D2B3-6AA5-4DA5-A290-09CC2820F0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0421-1BA3-438F-AF3B-1516565D7C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A702-AE95-4656-8BE0-EAE91BB30E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6632-6938-4FEC-AD74-1A695902C4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55F8-EAAA-4F7D-B309-FD61351C9A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8DE3-BE52-48B0-B259-8E6B12F52B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B326-DA34-432F-82E6-EAC8EB93C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CF92-A850-4EC9-936E-F544728FA2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2816-4CF3-4D14-8777-13EB82DB8A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1E93-5D5A-4078-8158-5978B1480E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2091-57CD-4B09-94E6-803812A61A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DC92-9775-4582-B294-9CD951C8F3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B80B-2DA2-458C-B3CE-5621BBEB52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BD30-CD48-4F3C-B2C7-B6FE2C88BA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1E4B-09F4-4ED2-8131-81C489D972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FBC8-4CFE-40FE-BF1F-3AD3942C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B239-379D-48EB-9251-449E4A06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3618-41AF-45B0-ACF0-6A3A0541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194C-2E6B-4F11-AA3F-5ACF0D0F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C24B-260C-4281-8F18-1398D491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A546-41ED-467C-A8C1-99B956C7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6A55-5890-4291-8224-AABD7930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5B8E-AB25-4E3F-B107-67688CC9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1B58-C927-416B-87CD-62A1E889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F713-6E3B-430E-AB47-844CF99A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F417-A975-441A-AF1A-58304DD8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DC65-9E2F-4308-9B87-EBE8D5D6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1D64-51FB-4725-B684-D607B0AA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943C-B59E-4295-B67E-F22C33DF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9312-B27D-4C44-82F8-C6F3F47E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CFA3-0FF2-41C8-9EFF-A8DE22B9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8DE6-FCD8-4F85-8DCF-BDAA5E0C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B197-7940-4FD9-A0BD-54525B92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B3ED-1588-43C7-BE1F-6DC496A5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E87F-4EC1-4F97-9D2C-8A2A22EB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B549-58A4-459B-B475-739064E0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0E2D-2E16-4613-AF0D-7B8F0E8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95E1-248F-4F8C-AABC-990DE6C3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17DC-870F-4673-8F40-D9D6A0D7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E3D5-D667-4894-A338-EF6B4009DB82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901E-839F-41C6-9068-2E03A21CC61B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Разработка и стандартизация программных средств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16000" y="458100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ОБОБЩ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проектирования программного продукта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объект 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задачу и определить все её фун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ть структуру базы данных нормативно справочной и оперативной информации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проектирования программного продукта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ть этапы жизненного цикла в соответствии со стандар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ладить и внедрить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сать Программно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читать качественную характеристику Программного Средства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 должно быть в соответствии со стандартами РФ, разработанными на основе ИС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ГОСТ_Р_ИСО/МЭК_9294-93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ая технология, руководство по управлению, документированием программного обеспе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ГОСТ_Р_ИСО/МЭК_9126-93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ая технология, оценка программной продукции, характеристика качества и руководство по их применен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ГОСТ_Р_ИСО/МЭК_9127-94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ы обработки информации, документация пользователя и информация для потребительских программных пак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ГОСТ_Р_ИСО/МЭК_8631-94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ые технологии, программные конструктивы и условные обозначения для их представ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ГОСТ_Р_ИСО/МЭК_12119:2000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ая технология, пакеты программных средств, требования к качеству и испытания в этом стандарте установленные требования и качеству пакетов програм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ГОСТ_Р_ИСО/МЭК_12207-99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ая технология, процесса жизненного цикла программны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жно обосновать при документировании ПС выбор модели жизненного цикла, описать схему процессов жизненного цикла ПС, обосновать выбор языков программирования и информационных технологий, предоставить тексты программ с комментари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новные задачи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овременных тенденций в области качества и безопасности продукции и услу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бования международных стандартов ИСО 9000 в качестве созданных систем кач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сание ПС показатели надёжности ПС, протокол тестирования ПС, документация пользователя при выборе модели жизненного цикла выбирается одна из двух моделей, каскадная или спира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а процессов жизненного цикла программного средства должна включать основные разработки, эксплуатация и сопровождение, вспомогательного описания ПС обеспечения качества, верификация, аттестация, оценка и ауди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ебования управления проекта, создание инфраструктура и обучение. Разработка ПС создание БД и программирование. Описание ПО должно содержать полную информацию о программном продук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ация пользователя должна содержать всю информацию для применения программного проду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ребования к описанию продукта к пользовательской документации программ и данны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м назначением описанием продукта является определение свойств ПП и показание к пользованию и работе пользовате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ребования к описанию ПС устанавливает ГОСТ_Р_ИСО/МЭК_12119:2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ие требования к содержанию обозначения и указания, функциональные возможности, надёжность, практичность, сопровождаемость и мобильнос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исание проду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 удовлетворять общим требованиям и содержание должно быть понятным, полным и простым при изучении быть внутренне не противоречивым. Каждый термин должен иметь один и тот же смысл ко всему документу формулировкам проверяемы и корректны. При описании продукта необходимы приводить следующие указания и обознач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исание проду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обозначении одного или нескольких продуктов необходимо указать его дату и вре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ы быть включены наименование и адрес поставщ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ы целевые рабочие задачи которые могут включены данным продук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писания продукта может быть дан ряд докуме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исание проду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а быть определена система технического программного средства и конфигурации (необходимо для ввода продукта в эксплуатацию, включая наименование изготовителя и т.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ы быть определены соответствующие интерфейсы и программы в описание проду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ен быть определён каждый физический компонент поставляемого проду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исание проду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быть установлен вид поставляемой программы, исходные программы или загрузочные моду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ы быть указания процедуры пользователя или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 быть указания о сопровождении программного проду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новные 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ы и основных требований государственных и международных стандартов в области средств международных отнош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методов оценки качества и управление качеством в жизненном цикле программного продук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4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нец:)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новные 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о методических принципов функционирования систем сертификации средств информационных технолог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нормативно технической базы и процедур программного обеспе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создание нормативно технической базы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представление о мировых тенденциях в области программного обеспечения сложной структуры для обеспечения качества и безопасности программного проду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создание нормативно технической базы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функционирования систем качества в рамках нормативных стандартов ИСО 900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ь основы законодательства РФ сертификации обеспечение качества продукции и усл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создание нормативно технической базы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ть структуру и основные требования государственных и международных стандартов в области средств информационных технологий. При этом надо уметь: овладевать общими принципами оценки качества на всех основных стадиях жизненного цикла программного продукта. Владеть навыками проведения сертификации программного обеспечения в соответствии с требованиями сертифик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mb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проектирования программного продукта необходимо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с использованием современных языков прорамирования и информационных технолог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ть стандартизировать основные этапы жизненного цикла программных сред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ть пользовательский интерфейс и документацию к Программному Средств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проектирования программного продукта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ть стандартизировать документацию программны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ть обеспечить надёжность и качество программны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ть методы тестирования программного обеспече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53:17Z</dcterms:created>
  <dc:creator>Nik-Nik</dc:creator>
  <dc:description/>
  <dc:language>en-US</dc:language>
  <cp:lastModifiedBy>teacher</cp:lastModifiedBy>
  <dcterms:modified xsi:type="dcterms:W3CDTF">2019-04-16T08:47:39Z</dcterms:modified>
  <cp:revision>5</cp:revision>
  <dc:subject/>
  <dc:title>Разработка и стандартизация программных средств.</dc:title>
</cp:coreProperties>
</file>