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400A-38E3-4A76-A546-3A52550C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5426-9269-46FD-A810-05FE59D3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7E70-3557-4A47-9AB8-D81A22BD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1E3A-C60C-4288-80A6-715E7CE9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F214-812F-40A3-9A23-2B14E55F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74C8-A179-497C-9006-01FBF663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CA6E-02A4-4D8B-861D-E883CF66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C549-45A8-41C5-BD58-3283E2E1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9D13-796D-4497-8A4A-8144EF3C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4F63-8174-434F-8F2E-664EBE3B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8AD0-96B0-4970-A904-432C2695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118C-5B04-4B2E-872D-D8197D00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A0F5-04A0-42E8-BFE2-B992A0B4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6D83-B82B-4754-B545-7563E33A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DFA0-0C6E-4AD7-A1C6-26D33AB7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729C-8D91-438E-A299-B20DEBF7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2850-5D04-4265-A982-BBB3EA0C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5C6F-5D1D-4E5A-BB87-BBB54BB7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EF38-7BFB-4E0B-9A8A-5C9C611A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C455-2E32-479B-AE5A-99E6C81E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8FEB-6183-4B03-B318-2F3D48C0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0631-BEFE-406A-BE3C-498954FF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F997-7BE6-4F6E-B821-97FBFBFD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D518-E78F-48B1-B737-251DA39E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1873-A698-4861-A0A6-900E49E6813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A2B1-5682-457F-8629-17286320F3C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Презентация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Практическая необходимость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Документация. Стандарты. СММ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Управляемый уровень (managed level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 организации устанавливаются количественные показатели качества – как на программные продукты, так и на процесс в целом. Таким образом, более совершенное управление проектами достигается за счет уменьшения отклонений различных показателей проекта. При этом осмысленные вариации в производительности процесса можно отличить от случайных вариаций (шума), особенно в хорошо освоенных областя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птимизирующий уровень (optimizing level)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Характеризуется тем, что мероприятия по улучшению применяются не только к существующим процессам, но и для оценки эффективности ввода новых технологий. Основной задачей всей организации на этом уровне является постоянное улучшение существующих процессов. При этом улучшение процессов в идеале должно помогать предупреждать возможные ошибки или дефекты. Должны вестись работы по уменьшению стоимости разработки программного обеспечения, например, с помощью создания и повторного использования компонен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ертификационная  оцен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Сертификационная  оценка соответствия всех ключевых областей проводится по 10-балльной шкале. Для успешной квалификации данной ключевой области необходимо набрать не менее 6 баллов. Оценка ключевой области осуществляется по следующим показателям: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Заинтересованность руководства в данной области (планируется ли практическое внедрение данной ключевой области, существует ли понимание у руководства необходимости данной области и т.д.)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Насколько широко данная область применяется в организации (например, оценке в 4 балла соответствует фрагментарное применение)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Использование данной области на практике ( оценке в 0 баллов соответствует полное отсутствие какого-либо эффекта, а оценка в 8 баллов выставляется при наличии систематического и измеримого положительного результата практически во всей организации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актическая необходимост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Описывая практичность необходимо описать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Интерфейс пользователя. Должен быть назван тип интерфейса: строка команд, меню, окно, функциональные клавиши и др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Требуемые знания. Должны быть определены конкретные знания, которые необходимо осветить пользователю для применения соответственного продукта. Например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Знания соответственной технической области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Знания ОС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Знания, полученные в результате специального обучения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Адаптация к потребностям пользователя. Если продукт может переделываться (адаптироваться) пользователем, то должны быть указаны инструментальные средства для проведения такой настройки и условия их применения. Например: изменение параметров; изменение алгоритма вычислений и назначение функциональных клавиш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Защита от нарушения авторских прав. В описании продукта должны быть указаны виды и средства защиты: технической защиты от потребителя; шифрование даты окончания использования продукта, напоминание о плате за копию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Эффективность применения и удовлетворение потребностям пользователя. В описании продукта может быть вписана информация по эффективности применения продукта. Описывая эффективность, необходимо описать информацию о характере поведения продукта во времени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окументация пользовател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Это полный список документов, поставляемый в печатном или другом виде, который обеспечивает применение продукта, а так же является его неотъемлемой частью. Документация пользователя должна отвечать следующим положениям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олнота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. Документация пользователя должна содержать информацию необходимую для использования продукта; в ней должно быть полное описание всех функций, установленных в описании продукта и все вызываемые пользователем из программы. Кроме того,  граничные значения, заданные в описании продукта должны быть продублированы в документации пользователя. Если установка (инициализация) продукта может быть проведена пользователем, то в документации пользователя должно быть включено руководство по установке продукта, содержащее всю необходимую информацию; если сопровождение продукта может проводиться пользователем, то в документации пользователя должно быть включено руководство по оптимизации программы, содержащая всю информацию, которая необходимо для обеспечения данного вида содержан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равильность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.  Вся информация в документации пользователя должна быть правильной, кроме того предоставленные данные в информации не должны содержать ошибок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Непротиворечивость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. Документы  не должны противоречить сами себе друг другу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онятность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. Документация пользователя должна быть понятной для сообщества пользователей выполняющих указанную задачу. Например, по средствам использующихся в ней соответственным образом термин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ростота обозрения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. Документация пользователя должна быть достаточно просто для изучения пользовател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граммные данны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Должны соответствовать всем обязательным формулировкам, приведенным в описании продукта и документации пользовател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Надежность. Это требование должно удовлетворять в случаях, когда возможность реализация при используемых ограничениях; имеют место реализации возможностей вне заданных ограничений; неправильные исходные данные вводятся только пользователем или другими программами; нарушается инструкции заданные в документации пользовател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Практичность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Понятность. Сообщения и результаты выполнения программы должны быть понятны. Например: путем соответственного выбора терминов; путем представления исходной информации путем пояснения функций подсказки. В сообщения об ошибках должны сообщать информацию, разъясняющую причину или способ исправления соответствующих ошибок из-за неправильности изменения продукта. Например, путем ссылки на элемент документации пользовател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Простота обозрения. Программа должна предъявлять пользователю информацию в качественном виде, чтобы данные легко было воспринимать и читать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Простота использования. Исполнение функции приводящим к серьезным последствиям при эксплуатации системы должно быть обратимо или программа должна выводить предупреждение о последствиях выполнения данной функции и запрашивать подтверждение перед выполнением команд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тандар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настоящий момент существует несколько стандартов связанных с оценкой качества программных средств, которые обеспечивает организация разработчик. К наиболее известным относятся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ISO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-9000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SO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-9000-9004),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MM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pability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turity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del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) т.е. модель зрелости (совершенствования) процессов создания ПО , предложенная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EI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ftware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gineering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stiture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) – институтом технологии программирования при Университете Карнеги-Меллон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бочая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ерсия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еждународног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тандарт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ISO/1EC 15504. Information technology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oftware Process Assessment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. С другой стороны эта версия более известна под названием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PICE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ftware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ocess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provement and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pability d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ermination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) - определение возможностей и улучшение процесса создания программного обеспече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серии стандартов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SO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-9000 сформулированы только необходимые условия для достижения некоторого минимального уровня организованности процесса, но не дается никаких рекомендаций по дальнейшему совершенствованию процесс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pability Maturity Model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MM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редставляет собой совокупность критериев оценки зрелости организации разработчика и рецептов улучшения соответствующих процесс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римечание: Изначально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MM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разрабатывался и развивался как методика, позволяющая крупным правительственным организациям США выбирать наилучших поставщиков ПО. Для этого предполагалось создать исчерпывающее описание способов оценки процессов разработки ПО и методики их дальнейшего усовершенствования. В итоге, авторы смогли добиться такой степени детализации, что стандарт оказался пригодным и для обычных компаний-разработчиков, желающих улучшить существующие процессы разработки и привести их к определенным стандарта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MM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пределяет пять уровней зрелости организаций-разработчиков, причем каждый следующий уровень включает в себя все ключевые характеристики предыдущих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чальный уровень (initial level)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Описан в стандарте в качестве основы для сравнения со следующими уровнями. На предприятии такого уровня организации не существует стабильных условий для созданий качественного программного обеспечения. Результат любого проекта целиком и полностью зависит от личных качеств менеджера и опыта программистов, причем успех в одном проекте может быть повторен только в случае назначения тех же менеджеров и программистов на следующий проект. Более того, если такие менеджеры или программисты уходят с предприятия, то резко снижается качество программных продуктов. В стрессовых ситуациях процесс разработки сводится к написанию кода и его минимальному тестировани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вторяемый уровень (repeatable level)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а предприятии ввести технологии управления проектами. При этом планирование и управление проектами основывается на накопленном опыте, существуют стандарты на разрабатываемое программное обеспечение (причем обеспечивается следование этим стандартам). Создается  специальная группа обеспечения качества. В случае необходимости организация может взаимодействовать с субподрядчиками. В критических условиях процесс имеет тенденцию скатываться на начальный уровен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пределенный уровень (defined level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Характеризуется тем, что стандартный процесс создания и сопровождения программного обеспечения полностью документирован (включая и разработку ПО, и управление проектами). Подразумевается, что в процессе стандартизации происходит переход на наиболее эффективные практики и технологии. Для создания и поддержания подобного стандарта в организации должна быть создана специальная группа. Наконец, обязательным условием для достижения данного уровня является наличие на предприятии программы постоянного повышения квалификации и обучения сотрудников. Начиная с этого уровня, организация перестает зависеть от качеств конкретных разработчиков, и не имеет тенденции скатываться на уровень ниже в стрессовых ситуациях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6:04:09Z</dcterms:created>
  <dc:creator>Михаил</dc:creator>
  <dc:description/>
  <dc:language>en-US</dc:language>
  <cp:lastModifiedBy>Михаил</cp:lastModifiedBy>
  <dcterms:modified xsi:type="dcterms:W3CDTF">2008-11-25T17:02:22Z</dcterms:modified>
  <cp:revision>3</cp:revision>
  <dc:subject/>
  <dc:title>Презентация</dc:title>
</cp:coreProperties>
</file>