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3B4-F1DB-4C0C-9454-A9D8AF38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98C-9325-4506-BC84-74307C57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BC2-D082-4347-9634-2FB073D8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DA4-145C-43CC-A82D-CD3161E4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869A-229F-4F48-9E8B-6ABFF857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33EB-5FB9-4DDE-A12B-BFED447F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B1F8-DF24-4A03-9B93-7AD82F88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DD2E-D766-42E4-BDD0-6CDC3CA0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1F3B-E194-4808-B5EC-1B29E78A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A15C-3B5E-4B78-B788-D7A4C1B1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D330-2C1F-43ED-82F9-7A68B194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6AF-28B6-42CF-9EBA-A80034B6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90CF-70FB-4179-8FF9-679E5560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03D7-C3DE-49C7-910E-F08F2621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335B-698C-460E-876A-620960D5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B851-8FFE-41B9-950D-82582215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CF1A-3106-4048-90FB-AC966E57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C62-B367-4EF7-A4C5-FF44E0C5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951-0149-4663-B088-0498F25E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96A-8850-444D-88C5-FD807802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1E6-3A5C-43CC-BD38-0DEC6FE7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07B-C4B8-4560-832E-7DA53872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4E2-01D2-4526-86E9-00C9ED5D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47B-A173-4CCD-ABEB-AE155674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46C9-E9AB-495B-97B8-14A3567DA4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CC75-E10A-42EE-83DC-E6BC3357D6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адежность программного издел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дели наде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онятие надежност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Одной из важных характеристик качества программного изделия является наде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Надежность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 это свойства программного изделия сохранять работоспособность в течение определенного периода времени, в определенных условиях эксплуатации с учетом последствий для пользователя каждого от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Работоспособным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 называется такое состояние программного изделия, при котором оно способно выполнять заданные функции с параметрами, установленными требованиями технического зад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С переходом программного изделия в неработоспособное состояние, связано событие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отказа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. Причиной отказа (перехода из работоспособного в неработоспособное состояние) программного изделия и технической системы различ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оказатели надежност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4479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Для надежности используется три группы показа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поряд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коли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Рассмотрим основные </a:t>
            </a:r>
            <a:r>
              <a:rPr b="1" i="1" lang="ru-RU" sz="2000" spc="-1" strike="noStrike" u="sng">
                <a:solidFill>
                  <a:srgbClr val="8c0039"/>
                </a:solidFill>
                <a:uFillTx/>
                <a:latin typeface="Arial"/>
              </a:rPr>
              <a:t>количественные</a:t>
            </a: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показатели программного издел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c0039"/>
                </a:solidFill>
                <a:uFillTx/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8c0039"/>
                </a:solidFill>
                <a:uFillTx/>
                <a:latin typeface="Arial"/>
              </a:rPr>
              <a:t>1. Вероятность безотказной работы р(</a:t>
            </a:r>
            <a:r>
              <a:rPr b="1" i="1" lang="en-US" sz="2000" spc="-1" strike="noStrike" u="sng">
                <a:solidFill>
                  <a:srgbClr val="8c0039"/>
                </a:solidFill>
                <a:uFillTx/>
                <a:latin typeface="Arial"/>
              </a:rPr>
              <a:t>t</a:t>
            </a:r>
            <a:r>
              <a:rPr b="1" i="1" lang="ru-RU" sz="2000" spc="-1" strike="noStrike" u="sng" baseline="-25000">
                <a:solidFill>
                  <a:srgbClr val="8c0039"/>
                </a:solidFill>
                <a:uFillTx/>
                <a:latin typeface="Arial"/>
              </a:rPr>
              <a:t>з</a:t>
            </a:r>
            <a:r>
              <a:rPr b="1" i="1" lang="ru-RU" sz="2000" spc="-1" strike="noStrike" u="sng">
                <a:solidFill>
                  <a:srgbClr val="8c0039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Это вероятность того, что в пределах заданной наработки отказ системы не возник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Наработка, продолжительность или объем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где</a:t>
            </a:r>
            <a:r>
              <a:rPr b="1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 – случайное время работы программного изделия до отказа;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8c0039"/>
                </a:solidFill>
                <a:latin typeface="Arial"/>
              </a:rPr>
              <a:t>з</a:t>
            </a: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 – заданная нарабо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c0039"/>
                </a:solidFill>
                <a:uFillTx/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8c0039"/>
                </a:solidFill>
                <a:uFillTx/>
                <a:latin typeface="Arial"/>
              </a:rPr>
              <a:t>2. Вероятность отк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Это вероятность того, что в пределах заданной наработки отказ системы возникает, это показатель обратный предыдущ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477120" y="4038480"/>
                <a:ext cx="1828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66880" y="5791320"/>
                <a:ext cx="2133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sh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4152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оличественные показатели надёжност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8c0039"/>
                </a:solidFill>
                <a:uFillTx/>
                <a:latin typeface="Arial"/>
              </a:rPr>
              <a:t>3</a:t>
            </a:r>
            <a:r>
              <a:rPr b="1" i="1" lang="ru-RU" sz="2000" spc="-1" strike="noStrike" u="sng">
                <a:solidFill>
                  <a:srgbClr val="8c0039"/>
                </a:solidFill>
                <a:uFillTx/>
                <a:latin typeface="Arial"/>
              </a:rPr>
              <a:t>. Средняя наработка до отказа Т</a:t>
            </a:r>
            <a:r>
              <a:rPr b="1" i="1" lang="en-US" sz="2000" spc="-1" strike="noStrike" u="sng">
                <a:solidFill>
                  <a:srgbClr val="8c0039"/>
                </a:solidFill>
                <a:uFillTx/>
                <a:latin typeface="Arial"/>
              </a:rPr>
              <a:t>i</a:t>
            </a:r>
            <a:r>
              <a:rPr b="1" lang="en-US" sz="2000" spc="-1" strike="noStrike" u="sng">
                <a:solidFill>
                  <a:srgbClr val="8c003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Это математическое ожидание времени работы программного изделия до очередного отк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где</a:t>
            </a:r>
            <a:r>
              <a:rPr b="1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 – время работы программного изделия от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k</a:t>
            </a:r>
            <a:r>
              <a:rPr b="1" i="1" lang="ru-RU" sz="2000" spc="-1" strike="noStrike">
                <a:solidFill>
                  <a:srgbClr val="8c0039"/>
                </a:solidFill>
                <a:latin typeface="Arial"/>
              </a:rPr>
              <a:t>-1</a:t>
            </a: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 до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 отказа, иначе среднюю наработку на отказ </a:t>
            </a:r>
            <a:r>
              <a:rPr b="1" i="1" lang="ru-RU" sz="2000" spc="-1" strike="noStrike">
                <a:solidFill>
                  <a:srgbClr val="8c0039"/>
                </a:solidFill>
                <a:latin typeface="Arial"/>
              </a:rPr>
              <a:t>Ti</a:t>
            </a: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 можно представ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где </a:t>
            </a:r>
            <a:r>
              <a:rPr b="1" i="1" lang="ru-RU" sz="2000" spc="-1" strike="noStrike">
                <a:solidFill>
                  <a:srgbClr val="8c0039"/>
                </a:solidFill>
                <a:latin typeface="Arial"/>
              </a:rPr>
              <a:t>ti</a:t>
            </a: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 - время работы программного изделия между отказ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количество отка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343400" y="2514600"/>
                <a:ext cx="2362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952880" y="4191120"/>
                <a:ext cx="32767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push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оличественные показатели надёжност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4152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8c0039"/>
                </a:solidFill>
                <a:uFillTx/>
                <a:latin typeface="Arial"/>
              </a:rPr>
              <a:t>4</a:t>
            </a:r>
            <a:r>
              <a:rPr b="1" i="1" lang="ru-RU" sz="2000" spc="-1" strike="noStrike" u="sng">
                <a:solidFill>
                  <a:srgbClr val="8c0039"/>
                </a:solidFill>
                <a:uFillTx/>
                <a:latin typeface="Arial"/>
              </a:rPr>
              <a:t>. Интенсивность отказов системы λ(</a:t>
            </a:r>
            <a:r>
              <a:rPr b="1" i="1" lang="en-US" sz="2000" spc="-1" strike="noStrike" u="sng">
                <a:solidFill>
                  <a:srgbClr val="8c0039"/>
                </a:solidFill>
                <a:uFillTx/>
                <a:latin typeface="Arial"/>
              </a:rPr>
              <a:t>t</a:t>
            </a:r>
            <a:r>
              <a:rPr b="1" i="1" lang="ru-RU" sz="2000" spc="-1" strike="noStrike" u="sng">
                <a:solidFill>
                  <a:srgbClr val="8c0039"/>
                </a:solidFill>
                <a:uFillTx/>
                <a:latin typeface="Arial"/>
              </a:rPr>
              <a:t>)</a:t>
            </a: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Это условная плотность вероятности возникновения отказа программного изделия в определенный момент времени при условии того, что до этого отказ не воз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где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f</a:t>
            </a:r>
            <a:r>
              <a:rPr b="1" i="1" lang="ru-RU" sz="2000" spc="-1" strike="noStrike">
                <a:solidFill>
                  <a:srgbClr val="8c0039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8c0039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 – плотность вероятности отказа в момент времени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257800" y="3352680"/>
                <a:ext cx="19051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505320" y="5105520"/>
                <a:ext cx="38242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sh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оличественные показатели надёжност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41520" y="1600200"/>
            <a:ext cx="64008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8c0039"/>
                </a:solidFill>
                <a:uFillTx/>
                <a:latin typeface="Arial"/>
              </a:rPr>
              <a:t>5</a:t>
            </a:r>
            <a:r>
              <a:rPr b="1" i="1" lang="ru-RU" sz="1800" spc="-1" strike="noStrike" u="sng">
                <a:solidFill>
                  <a:srgbClr val="8c0039"/>
                </a:solidFill>
                <a:uFillTx/>
                <a:latin typeface="Arial"/>
              </a:rPr>
              <a:t>. Коэффициент готовности k</a:t>
            </a:r>
            <a:r>
              <a:rPr b="1" i="1" lang="ru-RU" sz="1800" spc="-1" strike="noStrike" u="sng" baseline="-25000">
                <a:solidFill>
                  <a:srgbClr val="8c0039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Это вероятность того, что программное изделие ожидается в работоспособном состоянии, в произвольный момент времени его используют по на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8c0039"/>
                </a:solidFill>
                <a:uFillTx/>
                <a:latin typeface="Arial"/>
              </a:rPr>
              <a:t>6</a:t>
            </a:r>
            <a:r>
              <a:rPr b="1" i="1" lang="ru-RU" sz="1800" spc="-1" strike="noStrike" u="sng">
                <a:solidFill>
                  <a:srgbClr val="8c0039"/>
                </a:solidFill>
                <a:uFillTx/>
                <a:latin typeface="Arial"/>
              </a:rPr>
              <a:t>. Среднее время восстановления </a:t>
            </a:r>
            <a:r>
              <a:rPr b="1" i="1" lang="en-US" sz="1800" spc="-1" strike="noStrike" u="sng">
                <a:solidFill>
                  <a:srgbClr val="8c0039"/>
                </a:solidFill>
                <a:uFillTx/>
                <a:latin typeface="Arial"/>
              </a:rPr>
              <a:t>T</a:t>
            </a:r>
            <a:r>
              <a:rPr b="1" i="1" lang="ru-RU" sz="1800" spc="-1" strike="noStrike" u="sng">
                <a:solidFill>
                  <a:srgbClr val="8c0039"/>
                </a:solidFill>
                <a:uFillTx/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Математическое ожидание времени восстановления</a:t>
            </a:r>
            <a:r>
              <a:rPr b="1" i="1" lang="ru-RU" sz="1800" spc="-1" strike="noStrike">
                <a:solidFill>
                  <a:srgbClr val="8c0039"/>
                </a:solidFill>
                <a:latin typeface="Arial"/>
              </a:rPr>
              <a:t> t</a:t>
            </a:r>
            <a:r>
              <a:rPr b="1" i="1" lang="ru-RU" sz="1800" spc="-1" strike="noStrike" baseline="-25000">
                <a:solidFill>
                  <a:srgbClr val="8c0039"/>
                </a:solidFill>
                <a:latin typeface="Arial"/>
              </a:rPr>
              <a:t>Bi</a:t>
            </a: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, то есть времени затраченного на обнаружение и локализацию отказа, времени устранения отказа и времени пропускной проверки работо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Для этого показателя термин «время» означает время, затраченное специали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48320" y="4572000"/>
                <a:ext cx="28191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 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391520" y="2590920"/>
                <a:ext cx="10666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push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Аналитические модели надежности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Аналитическое моделирование включает четыре ша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Определение предположений, связанных с процедурой тестирования программны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Разработка или выбор аналитической модели, базирующейся на предположениях о процедуре тест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Выбор параметров модели с использованием полученных дан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Применение модели, то есть расчет количественных показателей надежности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LIK</cp:lastModifiedBy>
  <dcterms:modified xsi:type="dcterms:W3CDTF">2008-12-09T18:15:2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