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889-BAA2-48F3-9D22-ECE7C650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EDE-D889-464C-9A69-B2A37F02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133-CB21-4090-8374-F4E6E4DE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5BD-B001-4F9B-AD13-9DB79601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88B-9A21-4310-9FAF-FC5DBFEF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24C-7606-4B2D-9ED2-890B7C32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404-49C6-44AD-A250-037B9DD5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BA57-F857-4B12-A248-D86E7318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B1B-7108-4658-938E-069ECD97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EA6-7772-492C-AA5E-D73F5488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810-3F49-4FF8-876F-60128A27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4D43-2D97-4E4E-9F9A-5C4815AC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F1BA-B431-4335-8CDF-F259E89DC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08000" y="907920"/>
            <a:ext cx="8928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бобщение кур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Разработка и стандартизация программных средств и информационных технолог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79280" y="0"/>
            <a:ext cx="8785440" cy="67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При описании продукта необходимо приводить следующие указания и обознач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 обозначении одного или нескольких продуктов в рамках одного пакета необходимо включать наименование продукта, обозначение его версии и даты выпус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ы быть включены наименование и адрес поставщи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ы быть определены целевые рабочие задачи, которые могут быть выполнены данным продукт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из описания могут быть даны ссылки на нормативные документы, которым удовлетворяет данный продукт. В этом случае должны быть указаны соответствующие редакции данных докумен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а быть определена система (технические программные средства и их конфигурация), необходимая для ввода продукции в эксплуатацию, которая должна включать: наименование, изготовителя, обозначение типов всех ее ча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Например: процессоры, включая сопроцессоры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объем основной (оперативной) памяти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типы и объемы памяти периферийных и запоминающих устройств; расширяющие платы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оборудование ввода и вывода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сетевое оборудование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системные и прочие программные сред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95280" y="549360"/>
            <a:ext cx="82803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ы быть определены соответствующие интерфейсы или продукты, если в описании продукта имеются ссылки на интерфейсы других продук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ен быть определен каждый физический компонент поставляемого продукта, в частности все печатные документы и все носители дан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ен быть установлен вид поставляемых программ. Например: исходная программа, объект рабочей модели, загрузочный модул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о быть указано будет ли проводиться инсталляция продукта пользователем или не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о быть указано будет или нет предлагаться поддержка при эксплуатации продук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о быть указано будет или нет предлагаться сопровождение продукта. Если сопровождение предусмотрено, то должно быть указано, что оно подразумева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79280" y="212760"/>
            <a:ext cx="8713800" cy="64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При описании функциональных возможностей необходимо отразит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Times New Roman"/>
              </a:rPr>
              <a:t>обзор функций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– в описании продукта должен быть определен обзор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функций продукта, вызываемых пользователем, необходимые для н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анные и представленные средства. Для всех функций (особенно для е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пций и вариантов) должно быть четко установлено является ли о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часть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одук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сширения продукта, полностью приведенного в описании продук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сширения продукта, на который дана ссылка в описании продук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негарантированного (необязательного) приложения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2.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Times New Roman"/>
              </a:rPr>
              <a:t>граничные значения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-  если использование продукта ограниченно конкретными граничными значениями, то они должны быть указаны в описании продукта. Например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инимальное и максимальное значения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лина ключей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аксимальное число записей в файл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аксимальное число критериев поиска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инимальный объем выборки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95280" y="549360"/>
            <a:ext cx="828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3.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Times New Roman"/>
              </a:rPr>
              <a:t>защита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-  при необходимости в описание продукта должна быть включена информация по средствам предотвращения несанкционированного доступа к программе и данным. Описывая надежность продукта необходимо провести информацию по процедуре сохранения данных. Например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оверка достоверности исходных данных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писание технологии сбора, передачи, обработки и выдачи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защита против серьезных последствий от ошибки пользовател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восстановление при ошибках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276200" y="2786040"/>
            <a:ext cx="6591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95280" y="333360"/>
            <a:ext cx="835344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Основные задач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изучение основных тенденций в области обеспечения качества и безопасности продукции и услуг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изучение требований международных стандартов серии ИСО 9000 в части создания систем каче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оздание структуры и основных требований государственных и международных стандартов в области средств информационных технолог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оздание методов оценки качества и управления качеством в жизненном цикле программного обеспеч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изучение организационно-методических принципов функционирования систем сертификации средств информационных технолог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оздание нормативно-технической базы и процедур сертификационных испытаний программного обеспеч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395280" y="333360"/>
            <a:ext cx="828036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Должны зна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 мировых тенденциях в области разработки программного обеспечения сложной структуры для обеспечения качества и безопасности программного продук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нципы функционирования систем качества в рамках нормативных требований международных стандартов серии ИСО 9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сновы законодательства РФ в области стандартизации, сертификации, обеспечения качества и безопасности товаров и услуг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труктуру и основные требования государственных и международных стандартов в области средств и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68360" y="60480"/>
            <a:ext cx="828036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При этом нуж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уметь владеть основными принципами оценивания и обеспечения качества на всех жизненных циклах программного обеспеч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уметь владеть навыками проведения сертификационных испытаний в соответствии с требованиями одной из систем программной сертифика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оэтому если мы проектируем реальный программный продукт, то мы его разрабатываем с использованием современных алгоритмических языков программирования и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уметь стандартизировать основные этапы жизненного цикла программных средст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уметь стандартизировать документацию программных средст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уметь обеспечить надежность и качество функционирования программных средст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уметь использовать методы тестирования программного обеспеч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395280" y="333360"/>
            <a:ext cx="8280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Для создания программного обеспечения нуж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етально проанализировать объект управления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формулировать задачу и определить все ее функ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зработать структуру БД нормативно-справочной и оперативной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зработать этапы жизненного цикла программных средств в соответствии со стандарт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тладить и внедрить задачу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писать программное средство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ссчитать качественную характеристику программного сре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оздать пользовательский интерфейс и документацию к нем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395280" y="333360"/>
            <a:ext cx="8280360" cy="61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роектирование программного средства должно происходить в соответствии с государственными стандартами РФ, разработанными на основе применения международных стандартов серии ИС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ГОСТ Р ИСО/МЭК 9294-93  -  информационная технология. Руководство по управлению документированием программного обеспечения. Устанавливает рекомендации по эффективному управлению документированием программных сред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ГОСТ Р ИСО/МЭК 9126-93  -  информационная технология. Оценка программной продукции, характеристики качества и руководство по их применению. Стандарт определяет 6 комплексных характеристи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функциональная возможность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надежность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актичность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эффективность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опровождаемость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обильность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95280" y="549360"/>
            <a:ext cx="828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ГОСТ Р ИСО/МЭК 9127-94  -  системы обработки информации. Документация пользователя и информация на упаковке для потребительских программных пакетов (ПП). Под документацией пользователя понимается документация, которая обеспечивает информацией по установке и эксплуатации П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ГОСТ Р ИСО/МЭК 8631-94  -  информационная технология. Программные конструктивы и условные обозначения для их представления. Описывается представление процедурных алгоритм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ГОСТ Р ИСО/МЭК 12119:2000  -  информационная технология. Пакеты программных средств. Требования к качеству и испытаниям. В этом стандарте установлены требования к качеству ПП и инструкции по их испытаниям на соответствие заданным требовани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ГОСТ Р ИСО/МЭК 12207-99  -  информационная технология. Процессы жизненного цикла программных сред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68360" y="189000"/>
            <a:ext cx="8280360" cy="60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 документировании программных средств необходимо обеспечивать выбор модели жизненного цикла (ЖЦ), описать схему процесса жизненного цикла программных средств. Обосновать выбор языка программирования и информационных технологий, представить тексты программ с комментариями. Описание программного обеспечения, показатели надежности программных средств, протокол тестирования программных средств, документация пользовател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 выборе модели ЖЦ выбирается одна из двух типов моделей: каскадная или спиральная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зработка процессов ЖЦ программных средств должна включать следующие составляющ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сновные: разработка, эксплуатация, сопровождение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вспомогательные: описание, обеспечение качества, верификация, аттестация, оценка, ауди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рганизационные требования: управление проектом, создание инфраструктуры, обучение пользовател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9280" y="189000"/>
            <a:ext cx="8713800" cy="64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зработка программного средства это создание БД и программиров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писание программного обеспечения  должно содержать полную информацию о программном продук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кументация пользователя должна содержать всю информацию необходимую для применения программного продук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Требования к описанию продукта, к пользовательской документации, программам и дан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сновным назначением описания продукта является определение свойств программного продукта и оказание помощи пользователю в работе с н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Требования к описанию программного средства устанавливаются стандартом  ГОСТ Р ИСО/МЭК 12119:2000  -  общие требования к содержанию, обозначения и указания, функциональные возможности, надежность, практичность, эффективность, сопровождаемость, мобиль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писание продукта должно удовлетворят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бщим требованиям к содержанию, быть достаточно понятным, полным и простым к изучению, быть внутренне не противоречивым (каждый термин должен иметь один и тот же смысл по всему документу), формулировки должны быть проверяемыми и корректн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9:50:30Z</dcterms:created>
  <dc:creator>Igor</dc:creator>
  <dc:description/>
  <dc:language>en-US</dc:language>
  <cp:lastModifiedBy>Евгений</cp:lastModifiedBy>
  <dcterms:modified xsi:type="dcterms:W3CDTF">2019-05-15T11:19:18Z</dcterms:modified>
  <cp:revision>77</cp:revision>
  <dc:subject/>
  <dc:title>Слайд 1</dc:title>
</cp:coreProperties>
</file>