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6AB-B31E-4F3E-A164-703E9627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735-695B-451C-BD53-7BF70E7A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779-1D1A-4C26-A738-F94FB9B3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39A-8AF1-4967-992E-C91F9F9F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8EB1-D46E-429D-A714-B475F1ED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D2BC-0581-47DD-8199-54FCC10A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3513-08F6-4BED-A02E-FB612A6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9817-C2E2-49F5-84B7-D4335B63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A828-9E6C-4AC7-8B1C-E907C44A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5BC0-BA41-4A00-99AE-B3A6515C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E97A-8255-435D-9768-EF549244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72B-13F1-4365-B893-CF60EDB1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A12D-85A6-4F98-AC6C-D533A325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4925-B46A-4591-A8E4-10BBA352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4DE5-A410-4F6A-A8C6-77C5C4F5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9541-B0A9-4BA6-A9ED-B4007F8D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1231-99CC-451E-8A8F-4ED56082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FB5-E0DD-483B-9C64-437DB764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2D4-1BA6-4132-AD2B-988FD1DA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661-FFB8-4E5F-BB98-B81DACDA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4C6-CCF6-44EF-88D8-4A8F2180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247-6435-41F9-A6C1-756B9C5E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B52-FE7F-4354-8FA4-FA49D851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00F-9FC7-40E8-9654-57CB7C9B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DF81-43D6-4A23-80E2-5B051D7217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81E9-A69E-4372-9832-8572EC9408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1601640"/>
            <a:ext cx="7127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РАЗАРАБОТ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СТАНДАРТ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ПРОГРАММНЫХ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11280" y="276120"/>
            <a:ext cx="6769080" cy="60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тохастическая коррект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статистическое соответствие распределений результирующих случайных величин заданным эталонным распределениям при соответствующих распределении исход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инамическая коррект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соответствие изменений во времени результатам исполнения программ эталон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Синтаксический контроль корректности текстовых програм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проверка исходного текста программ на соответствие синтаксису языка программ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Семантический контроль текстовых програм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проверка корректности применения и взаимодействия базовых конструкций языка программирования в тексте проверяем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4360" y="404640"/>
            <a:ext cx="684036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669999"/>
                </a:solidFill>
                <a:uFillTx/>
                <a:latin typeface="Arial"/>
              </a:rPr>
              <a:t>Метрология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это наука об измерениях, методах, средствах обеспечения их единства и способы достижения требуемой точн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669999"/>
                </a:solidFill>
                <a:uFillTx/>
                <a:latin typeface="Arial"/>
              </a:rPr>
              <a:t>Предмет метрологи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это извлечение количественной информации о свойствах объектов и процессах с заданной точностью и достоверность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669999"/>
                </a:solidFill>
                <a:uFillTx/>
                <a:latin typeface="Arial"/>
              </a:rPr>
              <a:t>Средства метрологи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это совокупность средств измерений и метрологических стандартов, обеспечивающих их рациональное использов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669999"/>
                </a:solidFill>
                <a:uFillTx/>
                <a:latin typeface="Arial"/>
              </a:rPr>
              <a:t>Измерения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хождение значения физической величины опытным путём с помощью специальных технических средст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669999"/>
                </a:solidFill>
                <a:uFillTx/>
                <a:latin typeface="Arial"/>
              </a:rPr>
              <a:t>Ранжировани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спределение величин по возрастающим или убывающим показателям, характеризующим те или иные свойства этой величин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669999"/>
                </a:solidFill>
                <a:uFillTx/>
                <a:latin typeface="Arial"/>
              </a:rPr>
              <a:t>Метрологическое обеспечени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становление и применение научных и организационных основ технических средств, правил и норм, необходимых для достижения единства и требуемой точности измер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693720"/>
            <a:ext cx="70567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Arial"/>
              </a:rPr>
              <a:t>Критерии качества комплекса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ляют собой измеряемые численные показатели в виде некоторой целевой функции, характеризующей степень выполнения программами своего на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Требования, предъявляемые к критер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669999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ритерий должен численно характеризовать степень выполнения основной целевой функции системы, наиболее важной для данного этапа анализа и синте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669999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ритерий должен обеспечить возможность определения затрат, необходимых для   достижения его различных  значений, а так же степени влияния на показатель качества различных внешних факторов и пара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669999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ритерий должен быть по возможности простым по содержанию, хорошо измеряемым и иметь малую дисперсию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11280" y="260280"/>
            <a:ext cx="6912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нение метрик, т.е. числовых оценок параметров к комплексам программ, позволяет упорядочить их разработку, испытание, эксплуатацию и сопров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Функциональные критер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тражают основную специфику применения и степень соответствия программ их целевому на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Конструктивные критерии</a:t>
            </a:r>
            <a:r>
              <a:rPr b="1" i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качеств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 достаточно инвариантны к их целевому назначению и основным функциям. К ним относятся: сложность программ, надёжность функционирования, используемые ресурсы ЭВМ, корректность и т.д. В свою очередь конструктивные характеристики комплекса программ целесообразно разделить на основные критерии и факторы или параметры, влияющие на их 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Критерии качества этапа проектирования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ключают прежде всего сложность создания комплекса программ и проверку его адекватности поставленным цел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этапе проектирования основные затраты составляют трудоёмкость создания программ заданной сложности и коррек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546120"/>
            <a:ext cx="69850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Надёжность (безотказность) функцио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изует относительную длительность получения корректных результатов или вероятность правильных, не искажённых за допустимые пределы выход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Способность к модерниз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омплекса программ определяется чёткостью их структурного построения и структуре межмодульных связей. Кроме того на этот метод влияет метод распределения ресурсов вычислительной системы и наличие резервов для развития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Моби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лекса программ  относительно изменения типа, структуры и системы команд, характеризуют возможность сохранения эффективного использования, эксплуатирования программ в процессе развития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Временные показатели жизненного цикла програм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тельность проектирования, продолжительность эксплуатации очередной версии, длительность проведения каждой модифик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530280" y="1341360"/>
          <a:ext cx="6994440" cy="4091040"/>
        </p:xfrm>
        <a:graphic>
          <a:graphicData uri="http://schemas.openxmlformats.org/drawingml/2006/table">
            <a:tbl>
              <a:tblPr/>
              <a:tblGrid>
                <a:gridCol w="1306440"/>
                <a:gridCol w="1871640"/>
                <a:gridCol w="1944720"/>
                <a:gridCol w="1871640"/>
              </a:tblGrid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9999"/>
                          </a:solidFill>
                          <a:latin typeface="Times New Roman"/>
                          <a:ea typeface="Times New Roman"/>
                        </a:rPr>
                        <a:t>Этапы жизненного цик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9999"/>
                          </a:solidFill>
                          <a:latin typeface="Times New Roman"/>
                          <a:ea typeface="Times New Roman"/>
                        </a:rPr>
                        <a:t>Проектир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9999"/>
                          </a:solidFill>
                          <a:latin typeface="Times New Roman"/>
                          <a:ea typeface="Times New Roman"/>
                        </a:rPr>
                        <a:t>Эксплуат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9999"/>
                          </a:solidFill>
                          <a:latin typeface="Times New Roman"/>
                          <a:ea typeface="Times New Roman"/>
                        </a:rPr>
                        <a:t>Сопрово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критерии каче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Сложность создания програм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Корректность програм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Трудоёмкость разработки програм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Функциональная сложность комплекса програ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Надёжность функционир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Эффективност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Объём исходных и результирующих данных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Способность к модернизации програм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Мобильность программ относительно типов вычислительных систе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трудоёмкость изучения и модификации комплекса програм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324000" y="911160"/>
          <a:ext cx="7354800" cy="5110200"/>
        </p:xfrm>
        <a:graphic>
          <a:graphicData uri="http://schemas.openxmlformats.org/drawingml/2006/table">
            <a:tbl>
              <a:tblPr/>
              <a:tblGrid>
                <a:gridCol w="1368360"/>
                <a:gridCol w="2087640"/>
                <a:gridCol w="1800000"/>
                <a:gridCol w="2098800"/>
              </a:tblGrid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69999"/>
                          </a:solidFill>
                          <a:latin typeface="Arial"/>
                          <a:ea typeface="Times New Roman"/>
                        </a:rPr>
                        <a:t>Этап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69999"/>
                          </a:solidFill>
                          <a:latin typeface="Arial"/>
                          <a:ea typeface="Times New Roman"/>
                        </a:rPr>
                        <a:t>Жизнен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699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669999"/>
                          </a:solidFill>
                          <a:latin typeface="Arial"/>
                          <a:ea typeface="Times New Roman"/>
                        </a:rPr>
                        <a:t>цик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69999"/>
                          </a:solidFill>
                          <a:latin typeface="Arial"/>
                          <a:ea typeface="Times New Roman"/>
                        </a:rPr>
                        <a:t>Проектир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69999"/>
                          </a:solidFill>
                          <a:latin typeface="Arial"/>
                          <a:ea typeface="Times New Roman"/>
                        </a:rPr>
                        <a:t>Эксплуат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69999"/>
                          </a:solidFill>
                          <a:latin typeface="Arial"/>
                          <a:ea typeface="Times New Roman"/>
                        </a:rPr>
                        <a:t>Сопровожд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факторы определения кач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)Структурная упорядоченность программ и данных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)Степень стандартизации структуры модулей и переменных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)Документированность компонент и комплекс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)Методологическая обеспеченность технологии программирова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)Степень комплексной автоматизации технологии проектирова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)Уровень языков  спецификации программирования и отлад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)Квалификация специалистов и методы проведения рабо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)Корректность постановки зада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)Полнота и точность спецификац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)Уровень языка программирова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)Полнота тестирования програм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)Степень помехозащищённости програм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)Документированность для эксплуатац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)Структурная упорядоченность комплекса программных средст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)Степень стандартизации структуры моделей и переменных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)Документированность для модификац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)Уровень языков программирова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)Степень комплексной автоматизации технологии проектирова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)Обеспеченность контроля изменений версий и распространения коп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24720" y="189000"/>
            <a:ext cx="7413120" cy="5715360"/>
            <a:chOff x="324720" y="189000"/>
            <a:chExt cx="7413120" cy="5715360"/>
          </a:xfrm>
        </p:grpSpPr>
        <p:sp>
          <p:nvSpPr>
            <p:cNvPr id="156" name=""/>
            <p:cNvSpPr/>
            <p:nvPr/>
          </p:nvSpPr>
          <p:spPr>
            <a:xfrm>
              <a:off x="324720" y="189000"/>
              <a:ext cx="7413120" cy="57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Arial"/>
                </a:rPr>
                <a:t>Корректность программных средст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669999"/>
                  </a:solidFill>
                  <a:uFillTx/>
                  <a:latin typeface="Arial"/>
                </a:rPr>
                <a:t>Корректность программных средств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–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соответствие проверяемого объекта некоторому эталонному объекту или совокупности более или менее формализованных эталонных характеристик и правил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669999"/>
                  </a:solidFill>
                  <a:uFillTx/>
                  <a:latin typeface="Arial"/>
                </a:rPr>
                <a:t>Корректность текстов программ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это степень соответствия исходных программ формализованным правилам языков спецификации и программирования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669999"/>
                  </a:solidFill>
                  <a:uFillTx/>
                  <a:latin typeface="Arial"/>
                </a:rPr>
                <a:t>Конструктивная корректность модулей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соответствие их структуры общим правилам структурного программирования и конкретным правилам оформления и внутреннего построения программных модулей в данном заказе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669999"/>
                  </a:solidFill>
                  <a:uFillTx/>
                  <a:latin typeface="Arial"/>
                </a:rPr>
                <a:t>Функциональная корректность модулей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это корректность обработки исходных данных и получения результатов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669999"/>
                  </a:solidFill>
                  <a:uFillTx/>
                  <a:latin typeface="Arial"/>
                </a:rPr>
                <a:t>Конструктивная корректность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данных определяется правилами их структурирования и упорядочения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669999"/>
                  </a:solidFill>
                  <a:uFillTx/>
                  <a:latin typeface="Arial"/>
                </a:rPr>
                <a:t>Функциональная корректность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данных связана  в основном с конкретизацией их содержания в процессе выполнения программ, а так же при подготовке данных внешними абонентами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9640" y="549360"/>
            <a:ext cx="691200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Конструктивная корректность программных моду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ределяется правилами структурного, модульного построения программных комплексов и общими правилами организации межмодульных свя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 составляющая может быть проверена формализованными автоматизированными мето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9999"/>
                </a:solidFill>
                <a:uFillTx/>
                <a:latin typeface="Arial"/>
              </a:rPr>
              <a:t>Функциональная корректность програм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ректность обработки исходных данных и получения результата, наиболее трудно формируется  в следствие большого количества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аиболее сложном случае для программ реального времени её можно разделить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терминированную коррект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когда должно быть обеспечено однозначное соответствие исходных и результирующих данных исполняемых программ с определённым эталонным знач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2:50:35Z</dcterms:created>
  <dc:creator>vpi31</dc:creator>
  <dc:description/>
  <dc:language>en-US</dc:language>
  <cp:lastModifiedBy>vpi31</cp:lastModifiedBy>
  <dcterms:modified xsi:type="dcterms:W3CDTF">2008-12-12T13:05:04Z</dcterms:modified>
  <cp:revision>2</cp:revision>
  <dc:subject/>
  <dc:title>Слайд 1</dc:title>
</cp:coreProperties>
</file>