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B922-A328-4F18-A24B-A58E56F8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808-537B-4E5E-91B0-C57BE356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9E7-3D2E-4533-A5CC-3760F8CC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9D70-6668-4792-8DE3-34D6C8E1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F36F-7F40-4119-9858-7FED970C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FE89-D5CF-4E09-940E-545ED5CA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2A22-4D95-4525-8D1E-8FB5205B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D7A4-8FE7-4679-98D9-B380C193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7BE8-9A3A-46D9-92AC-3B3D835E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3207-2F8D-4B49-B23C-CA34BF98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5E8D-677E-459C-8EF4-55A45850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BD92-4D70-4780-9C3C-F7CFC7BF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8CF9-8B4C-401F-A512-94F376EC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3255-C08B-45DF-AB4C-8D90D07E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FE17-C7E9-400C-B3E5-0B068120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74CD-3AE9-4BE2-A190-2B49C41E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A1EE-CC6B-453E-B264-98CE23F1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C31-40DB-4D9C-AE7D-77FEFF5D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D80-1DB5-4765-A7E1-D0637505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6DE9-FF15-48CF-A361-381DBD04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9ACB-E116-4DA7-BA4C-DB3DB0FC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763-C14B-4CFB-8EE6-7F46A374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F4C-638B-4390-AF05-5B017BB2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8B4-F170-435A-B33B-B4271C0B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5567-5B86-4BE4-A6E7-309AA137663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B9A5-55E7-4A41-B8C7-166ECEB8B25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3760" y="898560"/>
            <a:ext cx="6193080" cy="30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Лекция по РиСПСИТ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Выполнили: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студентки гр. ВИС-32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Доценко С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Конорева Е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Организационная структура системы сертификации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Госстандарт РФ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организует введение обязательной сертификации продук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организует и финансирует разработку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утверждает основополагающие системы сертифика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Ведомственные органы по управлению сертификации продукции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Эти органы выполняют те же функции. Но в ограниченном объеме и для конкретных классов продук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Испытательные лаборатории сертификации ИЛС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проводят испытания согласно государственным нормативным документам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испытывают ЛС по поручению органов госнадзора России, заказчиков или разработчиков Л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оформляют в установленном порядке протоколы испыта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В процессе испытания должны проверяться и корректироваться инструкции по эксплуатации комплекса программ в следующих режимах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генерация пользовательской версии ПС и установка ее на аппаратуре пользователя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контроль работоспособности программ и функциональный контроль всего ПС перед включением рабочего режим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нормальное рабочее функционирование всех программ в условиях и ограничениях заданных документаций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аварийные и критические (стрессовые) ситуации, при которых должна сохраняться работоспособность программы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диагностика компонент программ и аппаратуры поиска неисправностей и источника искажений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профилактические работы, контроль носителей информации и программ, их дублирование и т.д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Обязанности специалистов сертификаторов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беспечение полноты и объективности проведения испытаний, достоверности и точности их результат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облюдение порядков и сроков проведения испытаний, согласованных с заявителем, а так же условий, обеспечивающих конфиденциальность их проведения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едотвращение распространения сертификационного продукта с нарушениями порядка, установленного законодательством, заказчиком или разработчиком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охранение государственных и фирменных секретов согласно требованиям действующих  нормативных документов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беспечение соответствия технического состояния контрольно-измерительной аппаратуры требованиям эксплуатационной документаци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Факторы, определяющие затраты на создание программных средств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835280" y="1600200"/>
            <a:ext cx="5175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Методы разработки КП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743120"/>
          <a:ext cx="82296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43120"/>
                    <a:ext cx="82296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835280" y="2338560"/>
          <a:ext cx="5905440" cy="16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835280" y="2338560"/>
                    <a:ext cx="5905440" cy="16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Методы сбора технико-экономической информации о разработке ПС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Основные затраты, снижающие идеальную экономическую эффективность ПС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403280" y="1770120"/>
          <a:ext cx="669924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70120"/>
                    <a:ext cx="669924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Сертификац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Это действие третьей стороны, доказывающее, что обеспечивается необходимая уверенность в том, что должным образом идентифицированная продукция, процесс или услуга соответствует конкретному стандарту или другому нормативному документу.   Сертификация может быть обязательной или добровольной. Решение о выдаче сертификата на ПС основывается на оценке степени ее соответствия действующему и/или специально разработанному документ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Цели сертификации ПС: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Основная цель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защита интересов пользователе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онтроль качеств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беспечение высоких потребительских свойств и повышение эффективности затра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Формальная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ыдача сертификато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олнота, точность эталонных данных, адекватные показатели качества ПС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методологии интерпретации данны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Сертификация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обязательная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добровольная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Обязательная сертификация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– это программные средства, выполняющие особо ответственные функции, в которых недостаточное качество, ошибки и отказы могут нанести большой ущерб или могут быть опасны для жизни и здоровья людей(авиация, атомная энергетика, система управления органами власти, банковские системы)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Добровольная сертификация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 – для удостоверения качества ПС  с целью повышения их конкурентоспособности, расширения сферы использования и получения дополнительных экономических преимуществ. Таким сертификационным испытаниям подвергаются компоненты операционных систем и прикладное программное обеспечение широкого применения, повышение гарантий качества которых выгодно как для поставщиков, так и для пользователей ПС. Решение о выдаче сертификата на ПС основано на оценке степени его соответствия действующим и/или специально разработанным документам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Действующие международные и национальные стандарты на тестирования, испытания, аттестацию программ и баз данных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Международные и государственные стандарты на технологию создания компонент ПС и алгоритмические языки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Стандарты на сопровождающую ПС документацию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Технические условия описания спецификаций и другие эксплуатационные документы по выбору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Исходные данные для сертификационных испытаний: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Критерии и четко определенные значения показателей качества, которые должны быть достигнуты для выдачи в последующем сертификата соответств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Значения исходных и результирующих данных, в пределах которых должны удовлетворяться заданные показатели качеств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тандарты, нормативные документы, методики точных воспроизводимых измерений и показателей качества, состав и значение исходных и результирующих данны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4:57:04Z</dcterms:created>
  <dc:creator>Лена</dc:creator>
  <dc:description/>
  <dc:language>en-US</dc:language>
  <cp:lastModifiedBy>gbt11</cp:lastModifiedBy>
  <dcterms:modified xsi:type="dcterms:W3CDTF">2008-11-26T12:24:58Z</dcterms:modified>
  <cp:revision>24</cp:revision>
  <dc:subject/>
  <dc:title>Лекция по РИСПСиТ</dc:title>
</cp:coreProperties>
</file>