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160-0B2B-42DE-A0CA-0DF99E80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B1B-CD1E-43BA-9F4C-9F143F20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7AF-A5EB-4090-90FE-1726F63B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550-E150-4D37-8144-7018C36D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182C1-885A-4BC8-8977-2BBC40F8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C83E2-FC87-4AC3-985D-D718DD0F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35133-7B7B-4EC0-B917-67A52A6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ED3EC-FB45-4486-AB45-04F745D7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EF757-6D27-4311-A18B-8A78897A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ABA92-5D0F-4117-B444-C2C2AEB4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DD6DF-874A-4564-A536-CCA809C0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377-6C1D-4F9A-B9AE-BA3A25C6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74B7B-1BB3-491B-A68D-AD14FDF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C0D07-C5A7-49B8-AAAD-C5BAF79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EB83F-BDC4-4303-8EE6-6583F2F4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CD326-C6CD-464E-A2F5-2C6946F8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6DA7-DD39-4758-A500-E157D764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4DA-9ED9-45BF-AF9B-BBA07460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3A8-1098-4AAE-B392-6FCD9D29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650-0DC4-4F72-98EF-11224D9C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B42-00F4-48E4-A7CD-96F35303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16A-0D4C-4E80-A2C8-01953EB1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3C9-D8A2-4726-9B82-25CF5BF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771-7E35-4C62-A806-FC5CF4F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A9F7-1778-4CED-ACBC-40383B34C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5E3B-6362-42F5-9617-30B49921F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90ee"/>
                </a:solidFill>
                <a:latin typeface="Tahoma"/>
              </a:rPr>
              <a:t>Сложность программного обеспеч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Сложность  программы для систем реального времени преимущественно определяется допустимым временем отклика, а для информационных поисковых систем количеством типов обрабатываемых переменны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Вычислительная сложность непосредственно связана с ресурсами вычислительной системы необходимы для получения совместимости законченных результ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Временная сложность алгоритма называется время счета, затрачиваемое программой для получения результатов на некотором этапе ЭВМ в зависимости от объёма исходных данн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Программная сложность характеризуется длиной программы или объёмом памяти ЭВМ, необходимой для размещения программного комплек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37160" y="933120"/>
            <a:ext cx="6103800" cy="4703040"/>
            <a:chOff x="137160" y="933120"/>
            <a:chExt cx="6103800" cy="4703040"/>
          </a:xfrm>
        </p:grpSpPr>
        <p:sp>
          <p:nvSpPr>
            <p:cNvPr id="166" name=""/>
            <p:cNvSpPr/>
            <p:nvPr/>
          </p:nvSpPr>
          <p:spPr>
            <a:xfrm>
              <a:off x="137160" y="1940400"/>
              <a:ext cx="1558440" cy="100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На не посредственную разработк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5200" y="4797000"/>
              <a:ext cx="2597400" cy="83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На подготовку и повышение квалификации специалистов-разработчиков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320" y="3285360"/>
              <a:ext cx="2206800" cy="67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На изготовление опытного образца КП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04960" y="933120"/>
              <a:ext cx="194724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Совокупные затра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43200" y="2444760"/>
              <a:ext cx="2467440" cy="101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На технология и прогрессирование средств автоматизации разработки КП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75760" y="1269000"/>
              <a:ext cx="1429200" cy="67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084400" y="1437480"/>
              <a:ext cx="77940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53320" y="1437480"/>
              <a:ext cx="0" cy="33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62320" y="1437480"/>
              <a:ext cx="389520" cy="10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2200" y="1101240"/>
              <a:ext cx="1688760" cy="10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300720" y="1916280"/>
            <a:ext cx="259236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Задачи возникающие на стадии обоснования и создания методов и средств снижения совокупных затрат для данного К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640" y="1267920"/>
            <a:ext cx="7200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Информационную сложность можно представить, как объёмом БД, обрабатываемых комплексом программ или ёмкость оперативной внешней памяти, используемой для накопления и хранения информации при исполнении програм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rebuchet MS"/>
              </a:rPr>
              <a:t>Сложность текста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- это длина самого короткого двоичного слова, содержащего всю информацию, необходимую для восстановления рассматриваемого текста, при помощи некоторого способа кодир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Структурная сложность программ определяется числом взаимодействующих компонентов, числом связей между компонентами и сложностью их взаимодей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Сложность некоторой межмодульной связи, в процессе проектирования, можно характеризовать вероятностью ошибки при её формализации и степенного влияния, этой ошибки, на последующие функционирование моду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042920" y="878760"/>
            <a:ext cx="7214040" cy="4115520"/>
            <a:chOff x="1042920" y="878760"/>
            <a:chExt cx="7214040" cy="4115520"/>
          </a:xfrm>
        </p:grpSpPr>
        <p:sp>
          <p:nvSpPr>
            <p:cNvPr id="87" name=""/>
            <p:cNvSpPr/>
            <p:nvPr/>
          </p:nvSpPr>
          <p:spPr>
            <a:xfrm>
              <a:off x="3272760" y="878760"/>
              <a:ext cx="249156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Сложность комплексных програм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53560" y="133668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72760" y="1564560"/>
              <a:ext cx="249156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Сложность проектирование програм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534480" y="2022480"/>
              <a:ext cx="131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9480" y="2022480"/>
              <a:ext cx="261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60560" y="2251080"/>
              <a:ext cx="2098800" cy="57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Сложность проектирования программ. статическая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40520" y="2251080"/>
              <a:ext cx="2229840" cy="57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Сложность проектирования программ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динамическая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98480" y="2822400"/>
              <a:ext cx="524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79640" y="2822400"/>
              <a:ext cx="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97640" y="2822400"/>
              <a:ext cx="392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42920" y="3051000"/>
              <a:ext cx="1180800" cy="57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Сложность программных  модуле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54760" y="3051000"/>
              <a:ext cx="1179720" cy="79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Tahoma"/>
                </a:rPr>
                <a:t>Сложность комплекса меж-модульных связе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54760" y="4079880"/>
              <a:ext cx="1048680" cy="68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Структурная сложность комплекс программ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88280" y="3072600"/>
              <a:ext cx="1049760" cy="55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Сложность структурных данны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436760" y="362268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05000" y="4422600"/>
              <a:ext cx="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79640" y="3850920"/>
              <a:ext cx="72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73160" y="478944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96440" y="2822400"/>
              <a:ext cx="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45120" y="2822400"/>
              <a:ext cx="655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14440" y="3051000"/>
              <a:ext cx="1442520" cy="57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Сложность подготовки анализа данны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71960" y="3074760"/>
              <a:ext cx="1573560" cy="57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Вычислительная сложность комплекс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программ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27160" y="3645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1920" y="3874680"/>
              <a:ext cx="1049760" cy="43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Временная сложнос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33640" y="430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846680" y="4765320"/>
              <a:ext cx="26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846320" y="37368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79640" y="3965760"/>
              <a:ext cx="11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268360" y="5013360"/>
            <a:ext cx="1257480" cy="68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Статистическая сложность комплексны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програм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3860640"/>
            <a:ext cx="20890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Статистическая сложность комплексны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програм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653000"/>
            <a:ext cx="12571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Статистическая сложность модуле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067280" y="40053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229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4581360"/>
            <a:ext cx="914400" cy="45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Программная сложнос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5300640"/>
            <a:ext cx="9144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Информационная сложнос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508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9280" y="3716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58920" y="407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59280" y="55166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90ee"/>
                </a:solidFill>
                <a:latin typeface="Tahoma"/>
              </a:rPr>
              <a:t>Схема взаимодействия показателей вычислительной сложности и основные факторы, влияющие на их зна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скорение алгоритмов.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(Алфавит, табулирование,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ециализация алгоритмов.)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трансляция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Язык описания трансляци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42920" y="2769480"/>
            <a:ext cx="6551280" cy="2050200"/>
            <a:chOff x="1042920" y="2769480"/>
            <a:chExt cx="6551280" cy="2050200"/>
          </a:xfrm>
        </p:grpSpPr>
        <p:sp>
          <p:nvSpPr>
            <p:cNvPr id="129" name=""/>
            <p:cNvSpPr/>
            <p:nvPr/>
          </p:nvSpPr>
          <p:spPr>
            <a:xfrm>
              <a:off x="3908880" y="2975040"/>
              <a:ext cx="10252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42920" y="2806200"/>
              <a:ext cx="2865960" cy="78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Временн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слож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32720" y="2769480"/>
              <a:ext cx="2661480" cy="81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Информационная слож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95440" y="3589560"/>
              <a:ext cx="40860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547960" y="3589560"/>
              <a:ext cx="41040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86120" y="3998160"/>
              <a:ext cx="3274920" cy="82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ahoma"/>
                </a:rPr>
                <a:t>                  </a:t>
              </a: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Программная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слож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1989000"/>
            <a:ext cx="304776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Ускорение вычислитель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ложность подобной программы растёт быстрее любой рекурсивной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3024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вышение сложности программы, вычисление и расширение алфавита исходных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1989000"/>
            <a:ext cx="3600360" cy="10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нижение алгоритмической сложности решаемых задач и увеличение практически доступной размерности для реш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3573360"/>
            <a:ext cx="3097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ужение класса решаемых задач, выделение алгоритмов наиболее эффективных для определения узких клас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659640" y="2997000"/>
            <a:ext cx="0" cy="50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050920" y="306864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b90ee"/>
                </a:solidFill>
                <a:latin typeface="Tahoma"/>
              </a:rPr>
              <a:t>Определение характеристик слож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16000" y="2335320"/>
          <a:ext cx="6494040" cy="3614400"/>
        </p:xfrm>
        <a:graphic>
          <a:graphicData uri="http://schemas.openxmlformats.org/drawingml/2006/table">
            <a:tbl>
              <a:tblPr/>
              <a:tblGrid>
                <a:gridCol w="2164680"/>
                <a:gridCol w="2165040"/>
                <a:gridCol w="216432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МОДУ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ПС(многомодульная пр-м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Уз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чка ветвления моду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уль, имеющий более одного вых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Ду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овательные участки моду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овательность нескольких модулей с одним выход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Пет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клические участки моду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клические участки, состоящие из нескольких моду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82803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rebuchet MS"/>
              </a:rPr>
              <a:t>Эффективность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-это мера соотношения затрат  и результатов функционирования программного сред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rebuchet MS"/>
              </a:rPr>
              <a:t>Экономический эффект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-это результат внедрения некоторого мероприятия, выраженный в стоимостной форме, в виде экономии от его осуществ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rebuchet MS"/>
              </a:rPr>
              <a:t>Коэффициент эффективности капитала вложений-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это величина годового прироста прибыли, образующаяся в результате производства или эксплуатации программного средства на один рубль единоразовых капиталовложений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rebuchet MS"/>
              </a:rPr>
              <a:t>Срок окупаемости-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это величина, обратная коэффициенту эффективности, представляющая собой период времени, в течение которого затраты на программное средство окупаются полученным эффек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В процессе разработки ПС в качестве критерия экономической эффективности могут быть выбраны следующие критер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x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экономическая эффективность функционирования ПС за весь период жизни цикла при ограниченных затратах на разработку програм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in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затраты на разработку программ при заданной экономической эффективности применения и заданном качестве программного сред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x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отношение экономической эффективности применения программного средства в течение времени эксплуатации к затратам на его созд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x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разность эффекта от функционирования за всю жизнь цикла и затрат на его разработку .эксплуатацию и сопровожде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b90ee"/>
                </a:solidFill>
                <a:latin typeface="Tahoma"/>
              </a:rPr>
              <a:t>Разработка ПС, техники, экономического анализа разработ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23480" y="2990880"/>
            <a:ext cx="4726800" cy="3392640"/>
            <a:chOff x="1923480" y="2990880"/>
            <a:chExt cx="4726800" cy="3392640"/>
          </a:xfrm>
        </p:grpSpPr>
        <p:sp>
          <p:nvSpPr>
            <p:cNvPr id="146" name=""/>
            <p:cNvSpPr/>
            <p:nvPr/>
          </p:nvSpPr>
          <p:spPr>
            <a:xfrm>
              <a:off x="3906720" y="4546440"/>
              <a:ext cx="2592360" cy="9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Обоснование и создание методов и средств снижения совокупности затра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6720" y="3556440"/>
              <a:ext cx="2592360" cy="85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Создание методов и методик прогнозирования сроков затра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06720" y="5676480"/>
              <a:ext cx="2743560" cy="70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Создание нормативных документ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81760" y="4122360"/>
              <a:ext cx="152496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81760" y="4828320"/>
              <a:ext cx="1524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23480" y="4970520"/>
              <a:ext cx="198288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923480" y="2990880"/>
              <a:ext cx="1829520" cy="155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924360" y="2637000"/>
            <a:ext cx="2808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пределение реальных затр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437000"/>
            <a:ext cx="13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8469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90ee"/>
                </a:solidFill>
                <a:latin typeface="Tahoma"/>
              </a:rPr>
              <a:t>Задачи, возникающие на стадии обоснования и создания методов и средств снижения совокупных затрат и сроков разработки К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24760" y="2922120"/>
            <a:ext cx="7706160" cy="3212280"/>
            <a:chOff x="824760" y="2922120"/>
            <a:chExt cx="7706160" cy="3212280"/>
          </a:xfrm>
        </p:grpSpPr>
        <p:sp>
          <p:nvSpPr>
            <p:cNvPr id="157" name=""/>
            <p:cNvSpPr/>
            <p:nvPr/>
          </p:nvSpPr>
          <p:spPr>
            <a:xfrm>
              <a:off x="3066840" y="2922120"/>
              <a:ext cx="2522520" cy="89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Задачи при разработки сложных КП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4760" y="4884840"/>
              <a:ext cx="2241000" cy="107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Эффективность распределения трудовых ресурсо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49520" y="4884840"/>
              <a:ext cx="2381400" cy="124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Рациональное повышение уровня комплексной автоматизации технологии разработки ПС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7920" y="3813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086200" y="3813480"/>
              <a:ext cx="140040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67600" y="3813480"/>
              <a:ext cx="72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09280" y="3813480"/>
              <a:ext cx="182124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68120" y="4884840"/>
              <a:ext cx="1961640" cy="10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Развитие и повышение эффективности технологи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19:12Z</dcterms:created>
  <dc:creator>HOUSE</dc:creator>
  <dc:description/>
  <dc:language>en-US</dc:language>
  <cp:lastModifiedBy>vpi31</cp:lastModifiedBy>
  <dcterms:modified xsi:type="dcterms:W3CDTF">2008-11-14T14:48:26Z</dcterms:modified>
  <cp:revision>9</cp:revision>
  <dc:subject/>
  <dc:title>Сложность программного обеспечения.</dc:title>
</cp:coreProperties>
</file>