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5321-5BC7-42CC-A7DD-124091451C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9F11-40CB-400C-8B18-A85FCF1D9E6A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52D8-FE0F-4BF1-938E-2E15E9D56F95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F8B6-5DA4-42CC-9D83-FB8943C2C5C0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036F-C721-459A-BE6D-08DB10B08FFC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E639-5993-4408-95E5-63A1F74A9237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7243-6B04-41E9-8B21-B2BB41BCF451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5D04-4BD8-4B5B-ABBF-DA4BE3083418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9547-7352-4129-9C12-54657004DDCC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398F-2A9D-4F1E-8E0D-A71C5EC308D8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F4A5-3531-40B9-8820-7C584198225A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A400-BCE5-4AF3-A4B3-1311B33EC42C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A35E-1D74-4149-8C95-CCFF535C7408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2F4-9F73-451A-B020-8E644EC2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68EC-B8AF-48E2-BF53-D23A6AF3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F71-0A39-4757-9183-A949080A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4DD-F1DB-4CEC-8A01-A8F6D18D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50CD-D516-40AB-97EA-F7699AB9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77B0-D6B4-4449-B0B6-7EE24AC3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626E-FDE9-4AD2-A3B7-10D224B1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F322-8F3B-4090-8552-99997A0D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F257-2DFA-4690-8254-7F6BA5CD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3DF3-2954-4B0C-8262-36D64746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9A59-002D-4D2E-AFA2-63158F5E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9BB-04C9-47B5-9393-A77F3620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F2C0-24AB-4F39-88AF-B83F2A23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572B-7A5D-4D63-9B89-16A2886F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9103-D992-467E-AA1D-159D1BF8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1511-9D8D-4A2E-9EE7-83733240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322C-FCDE-47BF-AA13-41FEDA58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F99-1944-41C9-8F46-FFBF6186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ADE-35F5-441C-9B44-0289F09D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9FC-96C5-43F8-A8C4-A5AA9898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429-887D-41EF-975A-429ACE84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1C2-42B3-4835-A2FB-D94CAE82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265-5C5C-41E2-AEA4-1BA16726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CBD-F84E-4D0F-AA9E-7BF3CC84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A247-CA24-4900-8EB6-A745D7A4ED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619A-5C1C-4E8C-A230-11101225356A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3760" y="898560"/>
            <a:ext cx="6193080" cy="30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Лекция по РиСПСИТ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ыполнили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рганизационная структура системы сертификации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Госстандарт РФ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рганизует введение обязательной сертификации продук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рганизует и финансирует разработк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тверждает основополагающие системы сертифик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едомственные органы по управлению сертификации продукции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Эти органы выполняют те же функции. Но в ограниченном объеме и для конкретных классов продук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Испытательные лаборатории сертификации ИЛС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оводят испытания согласно государственным нормативным документа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спытывают ЛС по поручению органов госнадзора России, заказчиков или разработчиков Л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формляют в установленном порядке протоколы испыта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 процессе испытания должны проверяться и корректироваться инструкции по эксплуатации комплекса программ в следующих режимах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генерация пользовательской версии ПС и установка ее на аппаратуре пользователя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онтроль работоспособности программ и функциональный контроль всего ПС перед включением рабочего режим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ормальное рабочее функционирование всех программ в условиях и ограничениях заданных документаций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варийные и критические (стрессовые) ситуации, при которых должна сохраняться работоспособность программы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диагностика компонент программ и аппаратуры поиска неисправностей и источника искажений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офилактические работы, контроль носителей информации и программ, их дублирование и т.д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бязанности специалистов сертификаторов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беспечение полноты и объективности проведения испытаний, достоверности и точности их результат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облюдение порядков и сроков проведения испытаний, согласованных с заявителем, а так же условий, обеспечивающих конфиденциальность их проведения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едотвращение распространения сертификационного продукта с нарушениями порядка, установленного законодательством, заказчиком или разработчиком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охранение государственных и фирменных секретов согласно требованиям действующих  нормативных документов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беспечение соответствия технического состояния контрольно-измерительной аппаратуры требованиям эксплуатационной документац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Факторы, определяющие затраты на создание программных средств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75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Методы разработки КП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9" name="Object 45"/>
          <p:cNvGraphicFramePr/>
          <p:nvPr/>
        </p:nvGraphicFramePr>
        <p:xfrm>
          <a:off x="457200" y="1743120"/>
          <a:ext cx="82296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43120"/>
                    <a:ext cx="82296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Object 3"/>
          <p:cNvGraphicFramePr/>
          <p:nvPr/>
        </p:nvGraphicFramePr>
        <p:xfrm>
          <a:off x="1835280" y="2338560"/>
          <a:ext cx="5905440" cy="16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3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835280" y="2338560"/>
                    <a:ext cx="590544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Методы сбора технико-экономической информации о разработке ПС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5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Основные затраты, снижающие идеальную экономическую эффективность ПС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5" name="Object 3"/>
          <p:cNvGraphicFramePr/>
          <p:nvPr/>
        </p:nvGraphicFramePr>
        <p:xfrm>
          <a:off x="1403280" y="1770120"/>
          <a:ext cx="669924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70120"/>
                    <a:ext cx="669924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Сертификац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о действие третьей стороны, доказывающее, что обеспечивается необходимая уверенность в том, что должным образом идентифицированная продукция, процесс или услуга соответствует конкретному стандарту или другому нормативному документу.   Сертификация может быть обязательной или добровольной. Решение о выдаче сертификата на ПС основывается на оценке степени ее соответствия действующему и/или специально разработанному документ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Цели сертификации ПС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сновная цель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защита интересов пользователе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нтроль качеств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беспечение высоких потребительских свойств и повышение эффективности затра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Формальная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дача сертификато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лнота, точность эталонных данных, адекватные показатели качества П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етодологии интерпретации данны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Сертификаци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бязательна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обровольна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бязательная сертификация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– это программные средства, выполняющие особо ответственные функции, в которых недостаточное качество, ошибки и отказы могут нанести большой ущерб или могут быть опасны для жизни и здоровья людей(авиация, атомная энергетика, система управления органами власти, банковские системы)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Добровольная сертификация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– для удостоверения качества ПС  с целью повышения их конкурентоспособности, расширения сферы использования и получения дополнительных экономических преимуществ. Таким сертификационным испытаниям подвергаются компоненты операционных систем и прикладное программное обеспечение широкого применения, повышение гарантий качества которых выгодно как для поставщиков, так и для пользователей ПС. Решение о выдаче сертификата на ПС основано на оценке степени его соответствия действующим и/или специально разработанным документам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ействующие международные и национальные стандарты на тестирования, испытания, аттестацию программ и баз данных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еждународные и государственные стандарты на технологию создания компонент ПС и алгоритмические язык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тандарты на сопровождающую ПС документацию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Технические условия описания спецификаций и другие эксплуатационные документы по выбору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сходные данные для сертификационных испытаний: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ритерии и четко определенные значения показателей качества, которые должны быть достигнуты для выдачи в последующем сертификата соответств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начения исходных и результирующих данных, в пределах которых должны удовлетворяться заданные показатели качеств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тандарты, нормативные документы, методики точных воспроизводимых измерений и показателей качества, состав и значение исходных и результирующих данны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4:57:04Z</dcterms:created>
  <dc:creator>Лена</dc:creator>
  <dc:description/>
  <dc:language>en-US</dc:language>
  <cp:lastModifiedBy>Остроух</cp:lastModifiedBy>
  <dcterms:modified xsi:type="dcterms:W3CDTF">2014-10-23T14:24:44Z</dcterms:modified>
  <cp:revision>25</cp:revision>
  <dc:subject/>
  <dc:title>Лекция по РИСПСиТ</dc:title>
</cp:coreProperties>
</file>