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5477-50EF-4680-B5BA-01B707828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FCDE-5604-4505-A21F-36B7243E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FFF1-9D8F-499D-840B-3DBE84AA1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48F0-854A-410A-B747-35E0D43F7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0E31-A1CA-46E9-9705-18A17D663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F584-10AA-42C2-B990-D8720096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7438-3727-47BA-A570-B034B6D4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D273-93DB-4EAF-847B-B525C617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0B53-1946-4B43-B011-4F903A38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72E9-EE86-47C7-85AC-2FC75793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5A81-E42B-46A7-98E5-44282ACE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188F-B1EE-48F9-8A10-7D99C694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717B-F111-4927-859A-8D660F96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5D30-D515-415D-909F-744A799B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8434-97D8-4AAF-BAD8-195792BD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A430-FE93-47D2-873A-E5C385B8B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812B-2E51-4892-9F66-AE985C073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BADA-E7C3-440E-8584-1FCE204F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C3F6-E3D0-405A-B654-5DFC2360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DD18-F0CC-486E-A213-3D048F97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7238-527B-44D8-9AC8-2E1F8C59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B663-BF24-4B36-AEC9-9DBDC399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D0C6-B3E3-42F0-8E16-6361C410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F9B2-0D8B-46E6-8DF5-90D1D600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6668-47C6-46C1-AC5F-0895F2EF949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6A6D-61E7-4C25-B0E6-3248777BBEB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Корректность программных средств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етрология, стандартизация, сертификация и разработка программных средст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Определение и виды корректност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Корректность программного средств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соответствие проверяемого объекта некоторому эталонному объекту или совокупности более или менее формализованных эталонных характеристик и прави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Корректность тестов программ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степень соответствия исходных текстов программ формализованным правилам языков спецификаций и программиров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Определение и виды корректност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Конструктивная корректность модулей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соответствие их структуры общим правилам структурного программирования и конкретным правилам оформления и внутреннего построения, указанных заказчик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Функциональная корректность модулей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корректность обработки исходных данных и полученных результа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Определение и виды корректност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Конструктивная корректность данных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пределяется правилами их структурирования и упорядочив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Функциональная корректность данных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связана в основном с конкретизацией их содержания в процессе исполнения программ, а также с подготовкой данных внешними абонент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орректность программных модулей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Конструктивная корректность программных модулей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определяется правилами структурного модульного построения программных комплексов и общими правилами органических межмодульных связей. Эта составляющая может быть проверена формализованными автоматизированными метод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3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орректность программных модулей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ffff"/>
                </a:solidFill>
                <a:latin typeface="Tahoma"/>
              </a:rPr>
              <a:t>Функциональная корректность модулей программы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 наиболее трудно формализуется вследствие большого количества возможных эталонных значений и измерений. В наиболее сложных случаях (для программ реального времени) её можно разделить на: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ffffff"/>
                </a:solidFill>
                <a:uFillTx/>
                <a:latin typeface="Tahoma"/>
              </a:rPr>
              <a:t>детерминированную корректность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, когда нужно обеспечить однозначное соответствие исходных и результирующих данных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ffffff"/>
                </a:solidFill>
                <a:uFillTx/>
                <a:latin typeface="Tahoma"/>
              </a:rPr>
              <a:t>стохастическую корректность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 – статистическое соответствие распределений результирующих случайных величин с заданным эталонным распределением при соответствующем распределении исходных данных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динамическую корректность – соответствие изменяющихся во времени результатов выполнения программ эталонным данным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онтроль корректности текстов программ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Синтаксический контроль текста программ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проверка исходного текста программ на соответствие формальным правилам языка программиров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Семантический контроль текста программ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проверка корректности применения и взаимодействия базовых конструкций ЯП в тексте проверяемых програм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bt11</cp:lastModifiedBy>
  <dcterms:modified xsi:type="dcterms:W3CDTF">2008-12-03T11:25:0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