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0E1-7AC8-4308-82C8-FB24FC09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293-C44D-442A-9A35-9B02DA61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759-E177-479B-AE56-4D547C59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DE2-DA84-4995-BE04-8747F0D5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EA50-F261-4788-9AEB-D40689E0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A1F5-EA2F-4FF2-BA67-E638742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905A-429F-43BD-80F7-88E74448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1EB2-F442-4F17-B362-BA323E11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F311-562E-46C8-83A9-753E5FE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3DA2-3796-4227-9E03-7ED6551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8C4E-F3AF-45D2-890B-2F05117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FF8-F293-4A8F-9DDA-B35FA2B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FCD0-1AC8-4B60-A856-10555C4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D5E-A749-41C6-97E0-4FFDB59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083-BDA3-406F-A3D4-6EB74D9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9CF-72F4-4C8D-942E-546A414A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C985-6B14-4B9A-B4F0-06071C7D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C70-2113-4E6A-A86B-0BA7D1EE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32B-5899-4271-84C8-ADBC2DF1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CF3-6FEC-440B-8FA3-1B57F8C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21D-D802-40A8-8E3C-3203A710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EA8-9FC1-4193-BC01-53EEC44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435-DB43-492A-9767-0F22826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9E4-C823-4021-B807-E305DD1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046-6146-44A8-8247-2AF7B4985C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30B-B466-4237-BD8F-935D1D1A4B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83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Сертификация, стандартизация и метрология программных средств (ПО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едмет, содержание и задачи курса. Основные понятия и опреде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етоды определения показателя качества ПС – 2 групп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 способам получения информации о ПС (измерение, регистрация, расчет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 источникам получения информации (традиционный, экспертный, социологически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15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компьютерах и вычислительных системах на первый план стали выдвигаться проблемы обеспечения: оценка надежности ПО; определение факторов, влияющих на достижение заданного уровня надежности ПО в процессе функционирования и проектирования П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ажность повышения надежности ПО обусловлена тем, что оно выполняет основные функции системного управления обработкой данных, и отказы в работе могут оказать существенное влияние на функционирование системы обработки данных в целом. Надежность ПО базируется на понятиях корректности и устойчивости комплекса или одиночных програм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ограмма считается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корректной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если она выполняет необходимые действия и не имеет побочных эффектов. Корректность базируется на тщательной спецификации требований пользовател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Устойчивость программ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это ее способность правильно выполнять запланированные действия при наличии отказов в работе аппаратуры и ошибок в исходных данны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им из существенных факторов, влияющих на достижение надежности средств ПО с учетом параметров окружающей среды и устойчивости ПО является стоим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893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Сертификация программных средств (ПС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это действия третьей стороны - сертификационного центра (лаборатории), доказывающие, что обеспечивается необходимая уверенность в том, что должным образом идентифицированная продукция (ПС, программа, пакет программ, процесс сопровождения ПС) соответствует конкретному стандартному (стандарт) или другому нормативному документу. Цель сертификации ПС – защита интересов пользователя, государственных интересов на основе реализации общих целей, управление качеством на государственному уровне, обеспечение высоких потребительских свойств ПС, повышение эффективности, затрат в сфере производства, эксплуатации и сопровождения ПС, повышение степени объективности при сравнительных оценках обеспечения конкурентоспособности П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прерывное развитие методов и средств технологии программирования предопределяет основные направления политики обеспечения качества в части применения методологических и программно-инструментальных средств испытаний: непрерывное их совершенствование на основе современны достижений теории/практики программир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ы по подготовке и проведению сертификации включают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бор или разработку нормативно-технических документов, в соответствии с которыми будет проводиться сертификац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станавливаются схемы проведения сертификации: проведение типовых испытаний ПС и последующий надзор за стабильностью качества при производстве (тиражирование ПС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пытание сертифицируемых П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дача сертификата соответствия и удостоверение прав на использование знака соответствия, а также проведения работ по их признанию, если сертификат выдан другим национальным или международным органо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дзор за стабильностью качества тиражируемых  П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ормирование о результатах сертификации на основе ведения БД сертифицированных ПС и методах (методиках) испытаний. Испытания проводятся в испытательных лабораториях (центрах), аккредитированных и признанных по стандартам РФ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20000"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459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рганизационная структура сертификации ПС ВТ включае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ациональный орган РФ по сертификации – ГосСтандарт РФ, осуществляющий выполнение функций в соответствии с действующими нормативными актами и положения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рган по сертификации ПС ВТ, назначаемый и аккредитируемый национальным органом РФ по сертиф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ытательные центры (лаборатории) по сертификации, аккредитируемые национальным органом РФ по сертификации. Главная функция испытательного центра (лаборатории по сертификации), называемого ИЦС (ПС) – это проведение испытаний ПС, совершенствование методов и средств испытаний, создание нормативно-технических и технических документов на методы проведения испытаний, оценки (статической и динамической), характеристик программ, степени их отлаженности, удобства пользовательского интерфейса, соответствие требованиям стандарта на ЯП, соответствие требованиям на программную документацию в аспекте семантической полноты документации и ее соответствие программной реализации, а также методы и средства, повышающие объективность принятия решений о качестве ПС и целесообразности выдачи сертификата. Сертификация ПС проводится по схеме, предусматривающей проведение испытаний и последующий надзор за стабильностью качества производства (тиражирования) П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новные принципы и правила сертификаци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С должны соответствовать следующим документа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ложению о сертификации продукции, ГОС РФ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ложению об аккредитации испытательных лабораторий (центр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Цели и задачи ИЦС ПС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здание и деятельности ИЦС ПС направлено на защиту интересов пользователей, государственных интересов, на основе реализации общих целей управления качеством на государственном уровне, повышение эффективности затрат в сфере разработки, производства и применения ПС, увеличения коэффициента повторного использования ПС общего назначения, повышения объективности оценок качества, обеспечения конкурентоспособности  ПС на мировом рын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едмет деятельности ИЦС – организация и проведение сертификационных испытаний ПС на соответствие ГОСТам и иной нормативно-техничекой документации в соответствии с разрабатываемым ИЦС руководством по качеств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Практические задачи ИЦ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проведение испытаний и принятие на основе анализа их результата, достоверных и объективных решений по выдаче сертификатов, а также решение задач по поддержке этих процедур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вершенствование систем показателей качества по видам ПС, методов и средств выбора и определения указателе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сширение номенклатуры сертифицированных П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птимизация фонда нормативно-технических документов, на соответствие которым проводится сертификац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вершенствование средств испытаний ПС, разработка или участие в разработке инструментальных средств испытан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спространение информации о сертифицированной программ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своение передового опыта (мирового) по повышению объективности оценок свойств программ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79786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етодология принятия решений по сертификации ПС основывается на оценки степени соответствия действительных документов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ОСТу на ЯП; синтаксическим, семантическим и лексическим требования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ОСТу на программную документацию: необходимость и достаточность номенклатуры документов, полнота и однозначность понимания содержания документ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хническим условием и другим документом на конкретное П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ействующим международным стандартам – методы определения значений показателей качества ПС конкретизируются по согласованию с заявителем на сертификацию конкретного объекта. Выбор и детализация метода оценки проводится на основе их классификации по различным критерия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9:32Z</dcterms:created>
  <dc:creator>Лёлька</dc:creator>
  <dc:description/>
  <dc:language>en-US</dc:language>
  <cp:lastModifiedBy>Лёлька</cp:lastModifiedBy>
  <dcterms:modified xsi:type="dcterms:W3CDTF">2008-09-14T15:47:40Z</dcterms:modified>
  <cp:revision>3</cp:revision>
  <dc:subject/>
  <dc:title>Сертификация, стандартизация и метрология программных средств (ПО)</dc:title>
</cp:coreProperties>
</file>