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90B78-DA27-4C11-ADA1-FF05B8D255F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40479-E1ED-4BD3-B872-87DB80F977E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A080C-ED9F-48A6-A77B-C0A1A2FF13F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D0F77-DC38-49EF-A578-B7D188191E0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E8242-7DA0-4907-B6BD-DE618925A64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1B457-FB24-401E-B691-F1C571D5F9C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920CE-499D-48F3-8E24-76C2861FB7C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919DE-587A-4C5B-BB2E-83FAA6A9203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1C3D3-16C9-442F-994E-6D8D8A4D007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77519-A235-4BA6-8572-0DFC2F8E60E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9C2DA-B9D5-4944-B44A-0CF11B8217A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8498E-8772-4632-A8AA-C3A2AF9043C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9D5F0-96F0-4A30-88DA-48B36E3C819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CC086-AD63-4E6A-A882-E1A9EE778D9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DD70C-A7EE-430C-8935-D8650356973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90E3B-7A37-4239-A532-F7B94EA994D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B569C-2F72-4D58-9964-F67BBF99EDF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58653-82EC-48E1-AF7C-04828D479AA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140BA-F3E0-42C9-80CF-FC696E5C6CD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0D020-34EA-4721-9F08-2042AA98A2C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CC349-EF9B-40A9-9B38-9243D28126E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1DFD6-28D6-471D-A80E-ED93712FD91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A6D36-07B9-435F-AB2D-70168392F0A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6E3B2-A4E5-4C12-B73A-E2A09582275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CE3AA-4C06-4881-B752-F69B98AE449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57B73-6C1A-41D0-98E1-CA196B44493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961CA-1518-421E-A495-1AB9C3C2D65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F5D16-74B3-4A6F-B227-780ABCF410B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D9FA6-2D9A-4B2A-B340-518A1559D3C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3158F-DA76-44CD-A14C-8A51DFDDFA3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0E355-0689-44A5-B439-9D80E62D2FF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DDD03B-D51A-493D-8C75-880A66003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724352-DF92-4EAF-B8E0-680874EBD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65FD2D-6420-4650-B6CB-A384CA625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347868-7CFD-4D2C-B70F-EFEBE8EFB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5DF85-12CF-42D1-A0EA-C2648F885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F83F5-1061-465C-8F13-CCD3B6182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587DB-D78B-46A1-966D-005069225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C532E-EDD9-4738-B6FF-77AC77148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77A0C-99CB-40C5-A607-6B5E1775A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D813E-8ECD-4430-B629-74758F987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4F4FF-859A-4E84-8A2A-83B16B504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F79E86-9CFD-43E6-8474-F120A0811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80F0B-6BB3-451A-BC0E-A8A397DC1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897CB-89E2-4906-A0BA-2BFD04DA4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C4BF3-5657-408D-96F2-4C30DE04A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DE4B8-1028-444D-A732-0A3B1C518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43A0C-8F4B-4023-B989-B1F55705B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48F148-0A29-4534-A837-A7A17112D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92B0AC-7CCF-44B5-A109-3628CE2B8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7CD1FA-B0A8-46B2-BD45-2E8C086C8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1C5CBB-D0C6-4D84-9D8C-9C44B2A79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8E47AD-C587-4676-BB4E-F6BB732CA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75E45C-1C9F-4FF5-83C6-17D17FB9A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DA6F18-3DA6-421D-9CAA-88E2A4C62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ECAE0-5129-451D-84D0-6BBC3199C05C}" type="slidenum">
              <a:rPr b="0" lang="ru-RU" sz="12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7c0704"/>
                </a:gs>
                <a:gs pos="100000">
                  <a:srgbClr val="33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822504"/>
                </a:gs>
                <a:gs pos="100000">
                  <a:srgbClr val="33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7c07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7c07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e2a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7c07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8225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e2a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e2a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e2a0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822504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e2a06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82250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7c0704"/>
                </a:gs>
                <a:gs pos="100000">
                  <a:srgbClr val="33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8225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e2a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7c07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7c07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8225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e2a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7c07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8225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e2a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7c07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e2a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e2a0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822504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e2a06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82250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B8B30-0E2B-46AF-888F-208E3068A30A}" type="slidenum">
              <a:rPr b="0" lang="ru-RU" sz="12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Arial"/>
              </a:rPr>
              <a:t>Разработка и стандартизация программных средств.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916000" y="4581000"/>
            <a:ext cx="601956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 u="sng">
                <a:solidFill>
                  <a:srgbClr val="ffffff"/>
                </a:solidFill>
                <a:uFillTx/>
                <a:latin typeface="Arial"/>
              </a:rPr>
              <a:t>ОБОБЩЕН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5000"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1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Для проектирования программного продукта необходимо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анализировать объект управле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формировать задачу и определить все её функц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зработать структуру базы данных нормативно справочной и оперативной информации.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5000">
    <p:comb dir="horz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0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Для проектирования программного продукта необходимо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зработать этапы жизненного цикла в соответствии со стандартам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тладить и внедрить задач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писать Программное Средств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ссчитать качественную характеристику Программного Средства.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5000">
    <p:comb dir="horz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0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70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Проектирование Программного Средства должно быть в соответствии со стандартами РФ, разработанными на основе ИСО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5000">
    <p:comb dir="horz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0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898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(ГОСТ_Р_ИСО/МЭК_9294-93)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нформационная технология, руководство по управлению, документированием программного обеспечени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5000">
    <p:comb dir="horz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0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4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(ГОСТ_Р_ИСО/МЭК_9126-93)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нформационная технология, оценка программной продукции, характеристика качества и руководство по их применению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5000">
    <p:comb dir="horz"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0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5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(ГОСТ_Р_ИСО/МЭК_9127-94)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истемы обработки информации, документация пользователя и информация для потребительских программных пакет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5000">
    <p:comb dir="horz"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0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6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(ГОСТ_Р_ИСО/МЭК_8631-94)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нформационные технологии, программные конструктивы и условные обозначения для их представлени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5000">
    <p:comb dir="horz"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0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6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(ГОСТ_Р_ИСО/МЭК_12119:2000)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нформационная технология, пакеты программных средств, требования к качеству и испытания в этом стандарте установленные требования и качеству пакетов програм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5000">
    <p:comb dir="horz"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0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7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(ГОСТ_Р_ИСО/МЭК_12207-99)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нформационная технология, процесса жизненного цикла программных средст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5000">
    <p:comb dir="horz"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0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7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роектирование Программного Средства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ужно обосновать при документировании ПС выбор модели жизненного цикла, описать схему процессов жизненного цикла ПС, обосновать выбор языков программирования и информационных технологий, предоставить тексты программ с комментариям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5000">
    <p:comb dir="horz"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0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Основные задачи: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зучение современных тенденций в области качества и безопасности продукции и услуг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ребования международных стандартов ИСО 9000 в качестве созданных систем качества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5000">
    <p:comb dir="horz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8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8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8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роектирование Программного Средства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писание ПС показатели надёжности ПС, протокол тестирования ПС, документация пользователя при выборе модели жизненного цикла выбирается одна из двух моделей, каскадная или спиральна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5000">
    <p:comb dir="horz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0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роектирование Программного Средства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зработка процессов жизненного цикла программного средства должна включать основные разработки, эксплуатация и сопровождение, вспомогательного описания ПС обеспечения качества, верификация, аттестация, оценка и аудит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5000">
    <p:comb dir="horz"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0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роектирование Программного Средства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рганизация требования управления проекта, создание инфраструктура и обучение. Разработка ПС создание БД и программирование. Описание ПО должно содержать полную информацию о программном продукте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5000">
    <p:comb dir="horz"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0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роектирование Программного Средства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окументация пользователя должна содержать всю информацию для применения программного продукт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5000">
    <p:comb dir="horz"/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0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266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Требования к описанию продукта к пользовательской документации программ и данных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3357360"/>
            <a:ext cx="8229600" cy="250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сновным назначением описанием продукта является определение свойств ПП и показание к пользованию и работе пользователю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5000">
    <p:comb dir="horz"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0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23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Требования к описанию ПС устанавливает ГОСТ_Р_ИСО/МЭК_12119:200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2852640"/>
            <a:ext cx="8229600" cy="30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бщие требования к содержанию обозначения и указания, функциональные возможности, надёжность, практичность, сопровождаемость и мобильность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5000">
    <p:comb dir="horz"/>
  </p:transition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0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Описание продукта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олжно удовлетворять общим требованиям и содержание должно быть понятным, полным и простым при изучении быть внутренне не противоречивым. Каждый термин должен иметь один и тот же смысл ко всему документу формулировкам проверяемы и корректны. При описании продукта необходимы приводить следующие указания и обозначения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5000">
    <p:comb dir="horz"/>
  </p:transition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0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Описание продукта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 обозначении одного или нескольких продуктов необходимо указать его дату и врем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олжны быть включены наименование и адрес поставщи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пределены целевые рабочие задачи которые могут включены данным продукто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описания продукта может быть дан ряд документов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5000">
    <p:comb dir="horz"/>
  </p:transition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0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Описание продукта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олжна быть определена система технического программного средства и конфигурации (необходимо для ввода продукта в эксплуатацию, включая наименование изготовителя и т.д.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олжны быть определены соответствующие интерфейсы и программы в описание продукт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олжен быть определён каждый физический компонент поставляемого продукт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5000">
    <p:comb dir="horz"/>
  </p:transition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nodeType="clickEffect" fill="hold">
                      <p:stCondLst>
                        <p:cond delay="0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Описание продукта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олжен быть установлен вид поставляемой программы, исходные программы или загрузочные модул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олжны быть указания процедуры пользователя или не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олжно быть указания о сопровождении программного продукт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5000">
    <p:comb dir="horz"/>
  </p:transition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nodeType="clickEffect" fill="hold">
                      <p:stCondLst>
                        <p:cond delay="0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9" dur="10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Основные задачи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труктуры и основных требований государственных и международных стандартов в области средств международных отношений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здание методов оценки качества и управление качеством в жизненном цикле программного продукта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5000">
    <p:comb dir="horz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8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8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8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8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448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ffff"/>
                </a:solidFill>
                <a:latin typeface="Arial"/>
              </a:rPr>
              <a:t>К</a:t>
            </a: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@</a:t>
            </a:r>
            <a:r>
              <a:rPr b="0" lang="ru-RU" sz="9600" spc="-1" strike="noStrike">
                <a:solidFill>
                  <a:srgbClr val="ffffff"/>
                </a:solidFill>
                <a:latin typeface="Arial"/>
              </a:rPr>
              <a:t>нец:)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5000"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Основные задачи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рганизационно методических принципов функционирования систем сертификации средств информационных технологий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здание нормативно технической базы и процедур программного обеспечени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5000">
    <p:comb dir="horz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8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Для создание нормативно технической базы необходимо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меть представление о мировых тенденциях в области программного обеспечения сложной структуры для обеспечения качества и безопасности программного продукт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5000">
    <p:comb dir="horz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Для создание нормативно технической базы необходимо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нципы функционирования систем качества в рамках нормативных стандартов ИСО 9000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нать основы законодательства РФ сертификации обеспечение качества продукции и услуг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5000">
    <p:comb dir="horz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0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Для создание нормативно технической базы необходимо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нать структуру и основные требования государственных и международных стандартов в области средств информационных технологий. При этом надо уметь: овладевать общими принципами оценки качества на всех основных стадиях жизненного цикла программного продукта. Владеть навыками проведения сертификации программного обеспечения в соответствии с требованиями сертификаци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5000">
    <p:comb dir="horz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Для проектирования программного продукта необходимо: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зработка с использованием современных языков прорамирования и информационных технологи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меть стандартизировать основные этапы жизненного цикла программных средст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здать пользовательский интерфейс и документацию к Программному Средству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5000">
    <p:comb dir="horz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0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Для проектирования программного продукта необходимо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меть стандартизировать документацию программных средст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меть обеспечить надёжность и качество программных средст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спользовать методы тестирования программного обеспечения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5000">
    <p:comb dir="horz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0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20:53:17Z</dcterms:created>
  <dc:creator>Nik-Nik</dc:creator>
  <dc:description/>
  <dc:language>en-US</dc:language>
  <cp:lastModifiedBy>teacher</cp:lastModifiedBy>
  <dcterms:modified xsi:type="dcterms:W3CDTF">2019-04-16T08:47:39Z</dcterms:modified>
  <cp:revision>5</cp:revision>
  <dc:subject/>
  <dc:title>Разработка и стандартизация программных средств.</dc:title>
</cp:coreProperties>
</file>