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B2E-5997-4A45-B4E5-C7235111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F6D-2DC1-427C-B098-45069D1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701-89E6-4D2F-A5EA-73358963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F66-0F46-4205-BD8F-3AFBABE1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3A7-A350-4D2D-8F58-E204E090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088-F5C9-4EBE-9272-C4940E3D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CA8-D79A-43D0-A8EF-8D4FFEC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884-E827-45F2-8D02-D05539B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26D-104C-45D5-9B6C-143FF308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654-F8D8-42E1-9AA8-DB8CD92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508-CFC0-43E5-A17E-67467D4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884-9248-4588-80D7-EFF6CCC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8607-EEF4-45AA-A2D9-EB5617306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907920"/>
            <a:ext cx="8928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Обобщ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Разработка и стандартизация программных средств и информационных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4581360"/>
            <a:ext cx="31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Выполнили студен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группы ВИС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Доценко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Конорева 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0"/>
            <a:ext cx="878544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ри описании продукта необходимо приводить следующие указания и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 обозначении одного или нескольких продуктов в рамках одного пакета необходимо включать наименование продукта, обозначение его версии и даты выпу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ы быть включены наименование и адрес поста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ы быть определены целевые рабочие задачи, которые могут быть выполнены данным продук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 описания могут быть даны ссылки на нормативные документы, которым удовлетворяет данный продукт. В этом случае должны быть указаны соответствующие редакции данны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а быть определена система (технические программные средства и их конфигурация), необходимая для ввода продукции в эксплуатацию, которая должна включать: наименование, изготовителя, обозначение типов всех ее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апример: процессоры, включая сопроцессоры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объем основной (оперативной) памят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типы и объемы памяти периферийных и запоминающих устройств; расширяющие платы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оборудование ввода и вывода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сетевое оборудование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системные и прочие программные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549360"/>
            <a:ext cx="8280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ы быть определены соответствующие интерфейсы или продукты, если в описании продукта имеются ссылки на интерфейсы других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ен быть определен каждый физический компонент поставляемого продукта, в частности все печатные документы и все носители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ен быть установлен вид поставляемых программ. Например: исходная программа, объект рабочей модели, загрузочный мод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о быть указано будет ли проводиться инсталляция продукта пользователем или 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о быть указано будет или нет предлагаться поддержка при эксплуатации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лжно быть указано будет или нет предлагаться сопровождение продукта. Если сопровождение предусмотрено, то должно быть указано, что оно подразуме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12760"/>
            <a:ext cx="8713800" cy="64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ри описании функциональных возможностей необходимо отраз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Times New Roman"/>
              </a:rPr>
              <a:t>обзор функций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– в описании продукта должен быть определен обзор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функций продукта, вызываемых пользователем, необходимые для 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анные и представленные средства. Для всех функций (особенно для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ций и вариантов) должно быть четко установлено является ли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част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сширения продукта, полностью приведенного в описании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сширения продукта, на который дана ссылка в описании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егарантированного (необязательного) приложения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2.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Times New Roman"/>
              </a:rPr>
              <a:t>граничные значени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-  если использование продукта ограниченно конкретными граничными значениями, то они должны быть указаны в описании продукта.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инимальное и максимальное значения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лина ключей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ксимальное число записей в фай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ксимальное число критериев поиска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инимальный объем выбор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6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000"/>
                            </p:stCondLst>
                            <p:childTnLst>
                              <p:par>
                                <p:cTn id="6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54936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3.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Times New Roman"/>
              </a:rPr>
              <a:t>защита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-  при необходимости в описание продукта должна быть включена информация по средствам предотвращения несанкционированного доступа к программе и данным. Описывая надежность продукта необходимо провести информацию по процедуре сохранения данных.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оверка достоверности исходных данных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ние технологии сбора, передачи, обработки и выдачи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защита против серьезных последствий от ошибки пользов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восстановление при ошибках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76200" y="2786040"/>
            <a:ext cx="6591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35344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учение основных тенденций в области обеспечения качества и безопасности продукции и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учение требований международных стандартов серии ИСО 9000 в части создания систем ка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ние структуры и основных требований государственных и международных стандартов в области средств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ние методов оценки качества и управления качеством в жизненном цикле программного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изучение организационно-методических принципов функционирования систем сертификации средств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ние нормативно-технической базы и процедур сертификационных испытаний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333360"/>
            <a:ext cx="82803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Должны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о мировых тенденциях в области разработки программного обеспечения сложной структуры для обеспечения качества и безопасности программного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принципы функционирования систем качества в рамках нормативных требований международных стандартов серии ИСО 9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основы законодательства РФ в области стандартизации, сертификации, обеспечения качества и безопасности товаров и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структуру и основные требования государственных и международных стандартов в области средств и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6048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и этом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уметь владеть основными принципами оценивания и обеспечения качества на всех жизненных циклах программного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уметь владеть навыками проведения сертификационных испытаний в соответствии с требованиями одной из систем программной сертиф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Поэтому если мы проектируем реальный программный продукт, то мы его разрабатываем с использованием современных алгоритмических языков программирования и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уметь стандартизировать основные этапы жизненного цикла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уметь стандартизировать документацию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уметь обеспечить надежность и качество функционирования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уметь использовать методы тестирования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333360"/>
            <a:ext cx="8280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ля создания программного обеспечения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етально проанализировать объект управления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формулировать задачу и определить все ее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ать структуру БД нормативно-справочной и оператив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ать этапы жизненного цикла программных средств в соответствии со стандар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тладить и внедрить задачу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ть программное средство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ссчитать качественную характеристику программ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здать пользовательский интерфейс и документацию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8036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оектирование программного средства должно происходить в соответствии с государственными стандартами РФ, разработанными на основе применения международных стандартов серии ИС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9294-93  -  информационная технология. Руководство по управлению документированием программного обеспечения. Устанавливает рекомендации по эффективному управлению документированием программ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9126-93  -  информационная технология. Оценка программной продукции, характеристики качества и руководство по их применению. Стандарт определяет 6 комплексных характерист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функциональная возмож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адеж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актич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эффектив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опровождаем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обильность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54936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9127-94  -  системы обработки информации. Документация пользователя и информация на упаковке для потребительских программных пакетов (ПП). Под документацией пользователя понимается документация, которая обеспечивает информацией по установке и эксплуатации 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8631-94  -  информационная технология. Программные конструктивы и условные обозначения для их представления. Описывается представление процедурных алгорит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12119:2000  -  информационная технология. Пакеты программных средств. Требования к качеству и испытаниям. В этом стандарте установлены требования к качеству ПП и инструкции по их испытаниям на соответствие заданным требо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ГОСТ Р ИСО/МЭК 12207-99  -  информационная технология. Процессы жизненного цикла программ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89000"/>
            <a:ext cx="828036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 документировании программных средств необходимо обеспечивать выбор модели жизненного цикла (ЖЦ), описать схему процесса жизненного цикла программных средств. Обосновать выбор языка программирования и информационных технологий, представить тексты программ с комментариями. Описание программного обеспечения, показатели надежности программных средств, протокол тестирования программных средств, документация пользов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 выборе модели ЖЦ выбирается одна из двух типов моделей: каскадная или спиральна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ка процессов ЖЦ программных средств должна включать следующие составля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сновные: разработка, эксплуатация, сопровождение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вспомогательные: описание, обеспечение качества, верификация, аттестация, оценка,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рганизационные требования: управление проектом, создание инфраструктуры, обучение пользов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1380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Разработка программного средства это создание БД и программ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ние программного обеспечения  должно содержать полную информацию о программном проду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окументация пользователя должна содержать всю информацию необходимую для применения программного проду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Требования к описанию продукта, к пользовательской документации, программам и д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сновным назначением описания продукта является определение свойств программного продукта и оказание помощи пользователю в работе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Требования к описанию программного средства устанавливаются стандартом  ГОСТ Р ИСО/МЭК 12119:2000  -  общие требования к содержанию, обозначения и указания, функциональные возможности, надежность, практичность, эффективность, сопровождаемость, моби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писание продукта должно удовлетвор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щим требованиям к содержанию, быть достаточно понятным, полным и простым к изучению, быть внутренне не противоречивым (каждый термин должен иметь один и тот же смысл по всему документу), формулировки должны быть проверяемыми и коррек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9:50:30Z</dcterms:created>
  <dc:creator>Igor</dc:creator>
  <dc:description/>
  <dc:language>en-US</dc:language>
  <cp:lastModifiedBy>Igor</cp:lastModifiedBy>
  <dcterms:modified xsi:type="dcterms:W3CDTF">2008-11-26T06:46:21Z</dcterms:modified>
  <cp:revision>76</cp:revision>
  <dc:subject/>
  <dc:title>Слайд 1</dc:title>
</cp:coreProperties>
</file>