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EB0-F9B0-4B0F-8820-2BE007D1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449-ABA5-4C50-BEAE-A1FA4522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B16-2455-4C8C-B740-E3B93D8E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313-932C-4C26-A544-15C67E2C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F189-BD47-4DB4-B15D-85562E7B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D94B-6823-498D-9841-6646FF24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647-BFD6-4545-8B74-E8A0A86D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7974-BAA0-427D-8CC8-A34F1CA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5086-AC7E-4318-AE93-ECC6BC6C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FFFA-DB51-47C7-BB81-82B6B923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DCAE-44D7-48D9-A3ED-CD031D8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F28-F37A-4904-813C-58632CA0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8FB0-0194-4D3A-A521-13822B2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40B7-5DAB-414A-B76C-AA215350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152A-3F31-43CD-ACEA-0EF4C66D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40E8-5504-45F6-8379-809FE5B8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0994-FFA8-40F5-B572-35D8F741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745-1DB9-4BD9-8F0A-BB774E27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903-C87C-4B1C-9585-3A6347CD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0B0-3441-4C09-A691-1A4E571B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336-EE15-4DFA-A7CC-1D0FDE61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901-7E0A-4DB7-8260-7A7A34BF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134-6491-4524-B077-60A946D0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049-544D-449C-8660-362D925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1F55-79BB-4088-B8A7-F9B4C66DA9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5C4-687C-42A6-96A4-5B9B117667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000" y="206064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Модель Шума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ходные данные для этой модели, которые относятся к динамическим моделям дискретного времени, собираются в процессе тестирования ПС в течение фиксированных или случайных временных интервалов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ый интервал – это стадия, которая выполняет последовательность тестов, и фиксируется некоторое число ошиб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ль Шумана может быть использована определённым образом при организованной процедуре тестирования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пользование модели Шумана предполагает, что тестирование проводится в несколько этапов, каждый из которых представляет собой выполнение программы на полном комплексе разработанных текстовых данных, выявление ошибки тестирования (собирается статистика об ошибках), но не исправля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завершении этапов на основе собранных данных о поведении ПС на очередном этапе тестирования может быть использованная модель Шумана для расчёта количественных показателей надёжности. После этого  исправляются ошибки, обнаруженные на предыдущем этапе. При необходимости корректируются текстовые наборы и проводится новый этап тестир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404640"/>
            <a:ext cx="7334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ИНАМИЧЕСКИЕ МОДЕЛИ НАДЁЖНО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Модель Джелинского-Моранд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55640"/>
            <a:ext cx="8578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кольку полученные     и      вероятностные, и точность их зависит от количества интервалов тестирования, или количества ошибок найденных к моменту оценки надежности, то асимптотические оценки дисперсии предполагается оценить с помощью следующих форму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292640" y="1963800"/>
                <a:ext cx="2397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97360" y="1957320"/>
                <a:ext cx="3081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24000" y="3141720"/>
                <a:ext cx="2016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219640" y="3213000"/>
                <a:ext cx="15130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95640" y="4437000"/>
                <a:ext cx="1511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46680" y="5207040"/>
                <a:ext cx="20890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Модель Джелинского-Моранд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94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того, чтобы получить       нужно подставить вмест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значения     и   .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чита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начений по формуле    и подставив в формулу        можно определить вероятность безотказной работы на различных временных интервалах. На основе полученных расчетных данных строиться график зависимости безотказной работы от времени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940360" y="1413000"/>
                <a:ext cx="4795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532640" y="2189160"/>
                <a:ext cx="4748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956720" y="1989000"/>
                <a:ext cx="576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43280" y="3213000"/>
                <a:ext cx="792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использовании модели Шумана  предполагается, что исходное количество ошибок в программе постоянно, и в процессе тестирования их число может уменьшаться только в том случае если они исправляются. Новые ошибки при корректировке не вносятс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орость ошибок обнаружения пропорциональна числу оставшихся ошибок. Общее число машинных инструкций в рамках одного этапа тестирования постоянно. Предполагается  что до начала тестирования в ПС имеетс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шиб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течение времени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бнаруживаетс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Ec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шибок в расчёте на команду в машинном языке. Таким образом , удельное число ошибок на одну машинную команду , оставшихся в системе после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ремени тестирования находится из следующего выраже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t/It)Ec(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общее число машинных команд, которые предполагаются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рамках  этапа тестир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жно предположить, что значение функции частоты отказов пропорционально числу ошибок, оставшихся  в ПС, после израсходованного на тестирование времени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г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(t)=Er(t) * C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Где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некоторая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ремя работы ПС без отка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огда, если время работы ПС без отказа отсчитывается от точк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=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, а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стаётся фиксированным, то формула надёжности или вероятность безотказной работы на интервале времени от 0 до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равн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(t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=exp{-C[Et/It-Ec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t};                                     (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ормула надёжност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1/{C[Et/It- Ec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]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 величин, входящих в две последовательные формулы неизвестны начальные значения ошибок в ПС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и коэффициент пропорциональн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их определения прибегают к  следующим рассуждениям. В процессе тестирования собирается  информация о времени и количестве ошибок на каждом прогоне, т.е. общее время  тестирования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τ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ладывается из времени каждого прогон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+…+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положим, что интенсивность появления ошибок постоянна и равна некоторой величине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и можно вычислить её ка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/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=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де –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личество ошибок н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м прого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=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47628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лее имея данные о двух различных моментах тестирования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τ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τ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е выделяются произвольно с учёт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&gt;Ec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но сопоставить уравнение при моментах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τ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τ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/C[Et/It-Ec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];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 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/C[Et/It-Ec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 которых следует, ч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 = {It[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 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-Ec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]}/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/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авим полученную оценку параметро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ыраж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получим оценку для второго неизвестного параметр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 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[Et/It- Ec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ив неизвестное   можно рассчитать надёжность по формул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имущество данной модели в том, что она является прогнозной, и , основываясь на данных, полученных в процессе тестирования, даёт возможность предсказать безотказной работы программы на последних этапах её выпол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916280"/>
            <a:ext cx="216000" cy="57600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35"/>
                </a:lnTo>
                <a:cubicBezTo>
                  <a:pt x="10800" y="9335"/>
                  <a:pt x="16200" y="10235"/>
                  <a:pt x="21600" y="10235"/>
                </a:cubicBezTo>
                <a:cubicBezTo>
                  <a:pt x="16200" y="10235"/>
                  <a:pt x="10800" y="11135"/>
                  <a:pt x="10800" y="1203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cc0000"/>
                </a:solidFill>
                <a:uFillTx/>
                <a:latin typeface="Arial Black"/>
              </a:rPr>
              <a:t>Модель Джелинского-Моранд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носиться к динамическим моделям непрерывного врем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ходные данные для использования этой модели собираются в процессе тестирования ПС. При этом фиксируется время до очередного отказа. Основное положение, на котором базируется модель в том, что значение интервала времени тестирования между обнаружением двух ошибок имеют экспоненциальное распределение  с частотой ошибок пропорциональной числу еще не выявленных ошиб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Модель</a:t>
            </a:r>
            <a:r>
              <a:rPr b="1" i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Джелинского-Моранд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281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плотности распределения времени определен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й ошибки отсчитывается от момента определен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шибки имеет ви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39960" y="4064040"/>
                <a:ext cx="45561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Модель Джелинского-Моранд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90560" y="3397320"/>
                <a:ext cx="4481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187280" y="4941720"/>
            <a:ext cx="55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исло ошибок в програм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62864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де      - интенсивность отказов, пропорциональная числу еще не выявленных ошибок в програм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476360" y="1557360"/>
                <a:ext cx="433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Модель Джелинского-Моранд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2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вероятные значения величин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оценки максимального правдоподобия)можно определить на основе данных , полученных при тестировании. Для этого фиксируют время выполнения программы до очередного отказ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514600" y="4867200"/>
                <a:ext cx="13320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16000" y="2492280"/>
                <a:ext cx="382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2492280"/>
                <a:ext cx="505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Модель Джелинского-Моранд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чения      и      можно получить т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95640" y="1539720"/>
                <a:ext cx="3823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19320" y="1501920"/>
                <a:ext cx="505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50920" y="2637000"/>
                <a:ext cx="3816360" cy="21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k</m:t>
                                        </m:r>
                                      </m:num>
                                      <m:den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k</m:t>
                                        </m:r>
                                      </m:den>
                                    </m:f>
                                  </m:e>
                                  <m:lim/>
                                </m:limUpp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781560" y="537372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Г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76360" y="5229360"/>
                <a:ext cx="172728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B</m:t>
                    </m:r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851280" y="5284800"/>
                <a:ext cx="11523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580000" y="5278320"/>
                <a:ext cx="12956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8:23:42Z</dcterms:created>
  <dc:creator>XPUser</dc:creator>
  <dc:description/>
  <dc:language>en-US</dc:language>
  <cp:lastModifiedBy>vpi31</cp:lastModifiedBy>
  <dcterms:modified xsi:type="dcterms:W3CDTF">2008-11-28T14:11:28Z</dcterms:modified>
  <cp:revision>7</cp:revision>
  <dc:subject/>
  <dc:title>ДИНАМИЧЕСКИЕ МОДЕЛИ НАДЁЖНОСТИ. </dc:title>
</cp:coreProperties>
</file>