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964-B4EB-4C68-AAC0-55BB0A41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A6F-100C-4D0B-A4B7-3545584E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A8C-6B11-4AEC-BF6C-B1B30213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322-BC81-4FC1-B17A-815CA1DB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F3D9-E591-4183-9057-5FACD13B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C75B-22AB-42F1-9406-000A646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466A-1B4C-4ACC-AFEE-46D4F87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AEB3-968D-4DE7-BB5F-E58E8E2F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D5A-2F54-4E86-94B0-1009D7D0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ED0D-A672-4389-8FF7-B6127271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B481-CE78-41D7-A2D3-8DB977FF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6AB-0801-4697-9A26-9B3A10A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FB5-7D37-4640-95E6-AA9D8A6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CC04-4DDC-416A-8824-0B301FA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0404-826C-4124-BD41-BC7ABE99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787F-5A31-477F-9FF0-AB0CC676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8686-11EA-4080-ABB0-DCB673FE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3E8-8B09-4B2F-A073-851F9D64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A54-CF7D-4710-B640-1AD8E7D4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310-A3E5-4717-893F-1AF85B5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9D1-1C0F-428F-A7A5-2CCD0711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5CA-BF8E-4239-BFE2-325ADA1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D73-0219-492E-8191-7F468209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362-BC18-4C4F-AA6F-FD8DABF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AD84-75CF-4C8C-B8E4-2CD5E0C87E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1894-7D09-4CF3-B2E4-15FE63BDB9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2552760" cy="2381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68360" y="836640"/>
            <a:ext cx="820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ртификация, стандартизация и метрология П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, содержание и задачи курса. Основные понятия и определен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95640" y="9252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ритерии качест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редставляют собой измеряемые численные показатели в виде некоторой целевой функции, характеризующие степень выполнения программами своего назнач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ециалисты стремятся каждый раз выделить некоторый превалирующий показатель для оценки качества системы, к которому предъявляются следующие основные требова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308720" y="5445000"/>
            <a:ext cx="1224000" cy="10652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487520" cy="20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39640" y="24357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итерий должен численно характеризовать степень выполнения основной целевой функции системы, наиболее важной для данного этапа анализа или синтез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итерий должен обеспечивать возможность определения затрат, необходимых для достижения его различных значений, а также степени влияния на показатель качества различных внешних факторов и параметр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итерий должен быть по возможности простым по содержанию, хорошо измеряемым и иметь малую дисперсию, т. е. слабо зависеть от множества неконтролируемых факто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537336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нение метрик – числовых оценок параметров к комплексам программ позволяет упорядочить их разработку, испытания, эксплуатацию и сопров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79640" y="123120"/>
            <a:ext cx="68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нение метрик – числовых оценок параметров к комплексам программ позволяет упорядочить их разработку, испытания, эксплуатацию и сопров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ункциональные критерии отражают основную специфику применения и степень соответствия программ их целевому назнач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525680" cy="1584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95280" y="1725480"/>
            <a:ext cx="84247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Конструктивные критерии качества программ достаточно инвариантны к их целевому назначению и основным функциям. К ним относятся сложность программ, надежность функционирования, используемые ресурсы ЭВМ, корректность и т.д. В свою очередь конструктивные характеристики комплексов программ целесообразно разделить на основные критерии (показатели) качества и факторы или параметры, влияющие на их значения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Критерии качества этапа проектирования включают, прежде всего, сложность создания комплекса программ и проверки его адекватности поставленным целям. На этапе проектирования основные затраты составляет трудоемкость создания программ заданной сложности и корректности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Надежность (безотказность) функционирования характеризует относительную длительность получения корректных (достоверных) результатов или вероятность правильных (не искаженных за допустимые пределы) выходных данных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Способность к модернизации комплексов программ определяется четкостью их структурного построения и структурой межмодульных связей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11280" y="19969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бильность комплексов программ относительно изменения типа, структуры и системы команд вычислительной машины характеризует возможность сохранения и эффективного использования эксплуатируемых программ в процессе развития аппаратуры ЭВ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ременные показатели жизненного цикла программ: длительность проектирования, продолжительность эксплуатации очередной версии и длительность проведения каждой модификации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ые этапы жизненного цик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324000" y="549360"/>
          <a:ext cx="8540640" cy="5830920"/>
        </p:xfrm>
        <a:graphic>
          <a:graphicData uri="http://schemas.openxmlformats.org/drawingml/2006/table">
            <a:tbl>
              <a:tblPr/>
              <a:tblGrid>
                <a:gridCol w="1584000"/>
                <a:gridCol w="3024360"/>
                <a:gridCol w="1797120"/>
                <a:gridCol w="21351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 жизненного цикл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ектировани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сплуатац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провождени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критерии качества комплекса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Сложность создания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Корректность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Трудоемкость разработки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Функциональная сложность комплекса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Надежность функционирован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Эффективность использования ресурсов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Объем исходных и результирующих данных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Способность к модернизации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Мобильность программ относительно типов вычислительных систе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Трудоемкость изучения и модификации комплексов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факторы, определяющие качество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Структурная упорядоченность программ и данных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Степень стандартизации структуры модулей и переменных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Документированность компонента и комплекс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Методологическая обеспеченность технологии проектирован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Степень комплексной автоматизации технологии проектирован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Уровень языков спецификаций, программирования и отладк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Квалификация специалистов и методы организации работ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Корректность постановки задач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Полнота и точность специфика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Уровень языков программирован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олнота тестирования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Степень помехозащищенности програм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Документированность для эксплуат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Структурная упорядоченность комплекса программных средств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Степень стандартизации структуры модулей и переменных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Документированность для модифик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Уровень языков программирован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Степень комплексной автоматизации технологии проектирован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Обеспеченность контроля изменений версий и распространен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Конец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55640" y="282528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жность повышения надежности ПО обусловлена тем, что оно выполняет основные функции системного управления обработкой данных, и отказы в работе могут оказать существенное влияние на функционирование системы обработки данных вцел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ежность ПО базируется на понятиях корректности и устойчивости комплекса программ или одиночной программы. Программа счит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рект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если она выполняет необходимые действия и не имеет побочных эффектов. Корректность базируется на тщательной спецификации требований пользователя.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тойчивость програм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её способность правильно выполнять запланированные действия при наличии отказов в работе и ошибок в исходных данных. Одним из существенных фактором, влияющих на достижение надежности средств ПО, с учетом параметров окружающей среды, является стоим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2016000" cy="1541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132000" y="476280"/>
            <a:ext cx="5832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омпьютерах и вычислительных системах на первый план стали выдвигаться проблемы обеспечения: оценка надежности ПО, определение факторов, влияющих на достижение заданного уровня надежности ПО в процессе проектирования и в процессе функционирования разработанного П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4360" y="286164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ль сертификации ПО – защита интереса пользователя, государственных интересов на основе реализации общих целей управления качеством на государственном уровне, обеспечение высоких потребительских свойств ПО, повышение эффективности, затрат в сфере разработки, производства, эксплуатации и сопровождения ПО, повышение степени объективности при сравнительных оценках обеспечения конкурентоспособности П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прерывное развитие методов и средств технологии программирования предопределяет основное направление политики обеспечения качества в части применения методологических и программно-инструментальных средств испытаний - непрерывное их совершенствование на основе современных достижений теории, практики программир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921040" cy="2320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780000" y="195120"/>
            <a:ext cx="47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ертификаци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онимается действие третьей стороны, доказывающее, что обеспечивается необходимая уверенность в том, что должным образом, идентифицированная продукция, процесс или услуга соответствует конкретному стандарту или другому нормативному докумен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9640" y="-73080"/>
            <a:ext cx="5616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боты по проведению сертификации включ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ыбор или разработку нормативно-технических документов, в соответствии с которыми будет проводиться сертифика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устанавливаются схемы проведения сертификации: проведение типовых испытаний ПО и последующий надзор за стабильностью качества при производстве(тиражирование ПО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испытание сертифицируемых П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выдача сертификата соответствия и удостоверения прав на использование знака соответствия, а также проведение работ по их признанию, если сертификат выдан другим национальным или международным органом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надзор за стабильностью качества тиражируемых П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информирование о результатах сертификации на основе ведения баз данных о сертифицированных ПС и методах (методиках) испытаний. Испытания проводятся в    испытательных лабораториях, аккредитованных и признанных по стандартам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710080" cy="4005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6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24000" y="17089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орган по сертификации ПС ВТ назначаемый и аккредитуемый национальным органом РФ по сертифик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испытательные центры (лаборатории) по сертификации, аккредитуемые национальным органом РФ по сертифик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ая функция испытательного центра (лаборатории) по сертификации ПС (ИЦС ПС) – проведение испытаний ПС, совершенствование методов и средств испытаний, создание нормативно-технических и технологических документов на методы проведения испытаний, оценки статических (статических и динамических) характеристик программ, степени их оптимальности, удобства пользовательского интерфейса, соответствия требований стандартов на языки программирования, соответствия требований на программную документацию в аспекте семантической полноты докуме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655640" cy="1295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050920" y="88560"/>
            <a:ext cx="66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рганизационная структура системы сертификации ПС ВТ  включа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национальный орган РФ по сертифик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ГОССТАНДАРТ РФ, осуществляющий выполнение функций в соответствие с существующими актами и положения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5280" y="294048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положению о сертификации продукции, ГОССТАНДАРТ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положению о аккредитации лабораторий (центров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Цели и задачи ИЦС  П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ие и деятельность ИЦС ПС направлена на защиту интересов пользователей, государственных интересов на основе реализации общих целей управления качеством на государственном уровне, повышение эффективности затрат в сфере разработки производства и  применения ПС, увеличение коэффициента повторного использования ПС общего назначения, повышение эффективности оценки качества, обеспечение конкурентоспособности ПС на мировом рын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1847880" cy="193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519280" y="673200"/>
            <a:ext cx="62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ртификация ПС проводится по схеме, предусматривающей проведение испытаний и последующий надзор за стабильностью качества производства (тиражирования) П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ые правила сертификации ПС должны соответствовать следующим документ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049480" y="333360"/>
            <a:ext cx="684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мет деятельности ИЦС - организация и проведение сертификационных испытаний ПС на соответствие госстандартам и иной нормативно-технической документации в соответствии с разрабатываемой ИЦС руководством о каче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классификация детализируется с указанием сертификационных испытаний П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9600" y="476280"/>
            <a:ext cx="1400040" cy="1800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66560" y="2558520"/>
            <a:ext cx="842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казываются компоненты трансляции, загрузки, редактирования связей, диагностирования. Практические задачи ИЦС -проведение испытаний и принятие на основе анализа их результатов, достоверных и объективных решений по выдаче сертификатов, а также решение задач по поддержке этих процеду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 совершенствование систем показателей качества по выдачи ПС, методов и средств выбора и определения показа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  расширения номенклатуры сертификационных П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оптимизация нормативно-технических документов на соответствие которым проводится сертифика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совершенствование средств испытаний П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едение образцово-программных средств, прошедших сертифицированные испытания и результатов испытаний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55640" y="770400"/>
            <a:ext cx="799164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аспространение информации о верифицированной программной продук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оздание и ведение базы эталонных значений показателей качества ПС конкретного назнач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освоение передового опыта по повышению объективности средств программной продук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нятие решения по сертификации ПС основывается на оценке степени соответствия действующим документ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ГОССТАНДАРТам на языки программирования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таксическим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антическим и лексическим требова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ГОССТАНДАРТам на программную документацию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техническим документам и другим документами на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ретное П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действующим международным стандарт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979640" y="475560"/>
            <a:ext cx="66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етролог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наука об измерениях, методах, средствах обеспечения их единства и способах достижения требуемой точ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едметом метролог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является извлечение количественной информации о свойствах объектов и процессов с заданной точностью и достовернос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редства метролог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совокупность средств измерений и метрологических стандартов, обеспечивающих их рациональное использов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мерени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это нахождение значения физической величины опытным путем с помощью специальных технических средст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нжирова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распределение величин по возрастающим или убывающим показателям, характеризующим те или иные свойства этой велич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етрологическое обеспеч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установление и применение научных и организационных основ, технических средств, правил и норм, необходимых для достижения единства и требуемой точности измер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150480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10:14Z</dcterms:created>
  <dc:creator>Web</dc:creator>
  <dc:description/>
  <dc:language>en-US</dc:language>
  <cp:lastModifiedBy>Web</cp:lastModifiedBy>
  <dcterms:modified xsi:type="dcterms:W3CDTF">2008-12-03T05:53:15Z</dcterms:modified>
  <cp:revision>10</cp:revision>
  <dc:subject/>
  <dc:title>Слайд 1</dc:title>
</cp:coreProperties>
</file>