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D1D-8808-4C05-A23F-E7A79199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237-E277-4CC2-925E-3F1EB17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832-1915-4867-8524-0A79FFE6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321-C4E6-4543-8AC6-EBB5957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62A-EBB9-4C83-8504-8A52368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591-7DA9-4B08-AEED-725504F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96D-5E5D-42BE-860A-54D1DA0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002-5A87-491B-98D3-E29B56C4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CCB-BC5B-4DBB-9BD9-9FCF3DB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76A-A42D-40EE-8615-A1A708B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EFE-B56C-441F-B05D-17A7FAC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23E-09B6-44DA-ADEA-DE2B617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97E-9B82-4505-BB3C-08AB5713D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рология и Критерии качества комплекса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и каче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измеряемые численные показатели в виде некоторой целевой функции, характеризующие степень выполнения программами своего назначения. Специалисты стремятся каждый раз выделить некоторый превалирующий показатель для оценки качества системы, к которому предъявляются следующие основны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й должен численно характеризовать степень выполнения основной це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 функции системы, наиболее важной для данного этапа анализа или синте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й должен обеспечивать возможность определения затрат, необходи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остижения его различных значений, а также степени влияния на по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 различных внешних факторов и параме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й должен быть по возможности простым по содержанию, хорошо изм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емым и иметь малую дисперсию, т. е. слабо зависеть от множества неконт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руемых фа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мет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метри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числовых оценок параметров к комплексам программ позволяет упорядочить их разработку, испытания, эксплуатацию и сопрово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ональные кри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е критерии отражают основную специфику применения и степень соответствия программ их целевому назна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труктивные критерии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е критерии качества программ достаточно инвариантны к их целевому назначению и основным функциям. К ним относятся сложность программ, надежность функционирования, используемые ресурсы ЭВМ, корректность и т.д. В свою очередь конструктивные характеристики комплексов программ целесообразно разделит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критерии (показатели) качества и факторы или параметры, влияющие на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итерии качества этапа проек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качества этапа проектирования включают, прежде всего, сложность создания комплекса программ и проверки его адекватности поставленным целям. На этапе проектирования основные затраты составляет трудоемкость создания программ заданной сложности и коррек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ность (безотказность) функционирования характеризует относительную длительность получения корректных (достоверных) результатов или вероятность правильных (не искаженных за допустимые пределы) выход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ность к модерн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ность к модернизации комплексов программ определяется четкостью их структурного построения и структурой межмодульных связей. Кроме того, на этот критерий влияет метод распределения ресурсов ВС и наличие резервов для развития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бильность комплекса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бильность комплексов программ относительно изменения типа, структуры и системы команд вычислительной машины характеризует возможность сохранения и эффективного использования эксплуатируемых программ в процессе развития аппаратуры Э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енные показатели жизненного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ные показатели жизненного цикла программ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тельность проектирования, продолжительность эксплуатации очередной версии и длительность проведения каждой мод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енная схема взаимодействия критериев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а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Схема взаимодействия критериев качества программ"/>
          <p:cNvPicPr/>
          <p:nvPr/>
        </p:nvPicPr>
        <p:blipFill>
          <a:blip r:embed="rId1"/>
          <a:stretch/>
        </p:blipFill>
        <p:spPr>
          <a:xfrm>
            <a:off x="539640" y="1400040"/>
            <a:ext cx="77533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Метр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Предмет метр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Средства метр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Ранж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Метрологическ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Метрология"/>
          <p:cNvPicPr/>
          <p:nvPr/>
        </p:nvPicPr>
        <p:blipFill>
          <a:blip r:embed="rId7"/>
          <a:stretch/>
        </p:blipFill>
        <p:spPr>
          <a:xfrm>
            <a:off x="5867280" y="1341360"/>
            <a:ext cx="261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взаимодействия основных критериев качества програм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схема взаимодействия критериев качетсва программ"/>
          <p:cNvPicPr/>
          <p:nvPr/>
        </p:nvPicPr>
        <p:blipFill>
          <a:blip r:embed="rId1"/>
          <a:stretch/>
        </p:blipFill>
        <p:spPr>
          <a:xfrm>
            <a:off x="900000" y="1341360"/>
            <a:ext cx="65152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ь эффективности и затрат на единицу времени от этап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енного цикла комплексов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зависимость и эффективность затрат"/>
          <p:cNvPicPr/>
          <p:nvPr/>
        </p:nvPicPr>
        <p:blipFill>
          <a:blip r:embed="rId1"/>
          <a:stretch/>
        </p:blipFill>
        <p:spPr>
          <a:xfrm>
            <a:off x="539640" y="1557360"/>
            <a:ext cx="6915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енный цик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жизненный цикл"/>
          <p:cNvPicPr/>
          <p:nvPr/>
        </p:nvPicPr>
        <p:blipFill>
          <a:blip r:embed="rId1"/>
          <a:stretch/>
        </p:blipFill>
        <p:spPr>
          <a:xfrm>
            <a:off x="1692360" y="1143000"/>
            <a:ext cx="6095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р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рология – это наука об измерениях, методах, средствах обеспечения их единства и способах достижения требуемой то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мет метр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ом метрологии является извлечение количественной информации о свойствах объектов и процессов с заданной точностью и достовер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ства метр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метрологии – это совокупность средств измерений и метрологических стандартов, обеспечивающих их рациональное исполь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рение – это нахождение значения физической величины опытным путем с помощью специальных технически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жирование – это распределение величин по возрастающим или убывающим показателям, характеризующим те или иные свойства этой вел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рологическ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рологическое обеспечение – это установление и применение научных и организационных основ, технических средств, правил и норм, необходимых для достижения единства и требуемой точности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итерии качества комплексов програм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Критерии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Применение мет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Функциональные кри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Конструктивные критерии ка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Критерии качества этапа проек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жность, безотк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модер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би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ые показатели Жизненн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ная схема взаимодействия критериев качества программ, основных факторов и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взаимодействия основных критериев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мость эффективности и затрат на единицу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жизненн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ритерии качества"/>
          <p:cNvPicPr/>
          <p:nvPr/>
        </p:nvPicPr>
        <p:blipFill>
          <a:blip r:embed="rId6"/>
          <a:stretch/>
        </p:blipFill>
        <p:spPr>
          <a:xfrm>
            <a:off x="6227640" y="981000"/>
            <a:ext cx="235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44Z</dcterms:created>
  <dc:creator>user</dc:creator>
  <dc:description/>
  <dc:language>en-US</dc:language>
  <cp:lastModifiedBy>Евгений</cp:lastModifiedBy>
  <dcterms:modified xsi:type="dcterms:W3CDTF">2019-05-15T11:08:27Z</dcterms:modified>
  <cp:revision>8</cp:revision>
  <dc:subject/>
  <dc:title>Метрология</dc:title>
</cp:coreProperties>
</file>