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0D0B-F6EB-4B08-A56B-605657284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3DBEA-DFA4-4A95-9678-4F85DA33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7DAD4-065F-49C0-BFDB-21BBEC1CD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B1051-A0A5-412E-9E92-268ADC8DE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5A715-63ED-4372-9139-F37FDE6E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957C-07D1-49AF-AE1E-A2161664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9E8D-6A79-4974-96AA-AD62A5BF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5FCB8-E436-4BBA-98CA-D0C74A639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E9DD-83FA-4059-AC0F-E79596235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35C2-8AC4-450B-A600-426D97E3B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AA56-21EE-44ED-8CFE-DBEE6255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DA3D7-08FA-427D-A80C-001C8C363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209A-3B97-4D4B-8099-F9FCB508A4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42" name="PlaceHolder 2"/>
          <p:cNvSpPr>
            <a:spLocks noGrp="1"/>
          </p:cNvSpPr>
          <p:nvPr>
            <p:ph/>
          </p:nvPr>
        </p:nvSpPr>
        <p:spPr>
          <a:xfrm>
            <a:off x="468360" y="1052280"/>
            <a:ext cx="8229600" cy="5329080"/>
          </a:xfrm>
          <a:prstGeom prst="rect">
            <a:avLst/>
          </a:prstGeom>
          <a:noFill/>
          <a:ln w="0">
            <a:noFill/>
          </a:ln>
        </p:spPr>
        <p:txBody>
          <a:bodyPr anchor="t">
            <a:normAutofit/>
          </a:bodyPr>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едмет, содержание и задачи курса, </a:t>
            </a:r>
            <a:endParaRPr b="0" lang="en-US" sz="2000" spc="-1" strike="noStrike">
              <a:solidFill>
                <a:srgbClr val="000000"/>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основные понятия и определения.</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В компьютерных и вычислительных системах на первый план стали выдвигаться проблемы обеспечения надёжности ПО, определения факторов влияющих на достижение заданного уровня надёжности ПО в процессе проектирования и в процессе функционирования ПО.</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Важность повышения надёжности ПО обусловлена тем, что оно выполняет основные функции системного управления обработкой данных , и отказы в работе могут оказать существенное влияние на механизм обработки данных в целом.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0" lang="ru-RU" sz="2000" spc="-1" strike="noStrike">
                <a:solidFill>
                  <a:srgbClr val="333399"/>
                </a:solidFill>
                <a:latin typeface="Arial"/>
              </a:rPr>
              <a:t>Надежность</a:t>
            </a:r>
            <a:r>
              <a:rPr b="0" lang="ru-RU" sz="2000" spc="-1" strike="noStrike">
                <a:solidFill>
                  <a:srgbClr val="000000"/>
                </a:solidFill>
                <a:latin typeface="Arial"/>
              </a:rPr>
              <a:t> ПО базируется на понятиях корректности и устойчивости комплекса программ. Программа считается корректной, если она выполняет свои действия и не имеет побочных эффектов.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333399"/>
                </a:solidFill>
                <a:latin typeface="Arial"/>
              </a:rPr>
              <a:t>Корректность</a:t>
            </a:r>
            <a:r>
              <a:rPr b="0" lang="ru-RU" sz="2000" spc="-1" strike="noStrike">
                <a:solidFill>
                  <a:srgbClr val="000000"/>
                </a:solidFill>
                <a:latin typeface="Arial"/>
              </a:rPr>
              <a:t> базируется на тщательной спецификации преобразований пользова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60" name="PlaceHolder 2"/>
          <p:cNvSpPr>
            <a:spLocks noGrp="1"/>
          </p:cNvSpPr>
          <p:nvPr>
            <p:ph/>
          </p:nvPr>
        </p:nvSpPr>
        <p:spPr>
          <a:xfrm>
            <a:off x="457200" y="907560"/>
            <a:ext cx="8229600" cy="52182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ы определения значений показания качества ПС конкретизируются с заявителем на сертификацию ПС.</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бор и детализация метода оценки производится на основе их классификации по различным предметам;</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етоды определения показателей качества ПС можно разделить на 2 группы:</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пособом получении информации о ПС (измерения, регистрация, расчет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источникам получения информации (традиционный, экспертный, социологический);</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62"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туем почитать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ru-RU" sz="2000" spc="-1" strike="noStrike">
                <a:solidFill>
                  <a:srgbClr val="000000"/>
                </a:solidFill>
                <a:latin typeface="Arial"/>
              </a:rPr>
              <a:t>Ковалевская Е.М</a:t>
            </a:r>
            <a:r>
              <a:rPr b="0" lang="en-US" sz="2000" spc="-1" strike="noStrike">
                <a:solidFill>
                  <a:srgbClr val="000000"/>
                </a:solidFill>
                <a:latin typeface="Arial"/>
              </a:rPr>
              <a:t> , </a:t>
            </a:r>
            <a:r>
              <a:rPr b="0" lang="ru-RU" sz="2000" spc="-1" strike="noStrike">
                <a:solidFill>
                  <a:srgbClr val="000000"/>
                </a:solidFill>
                <a:latin typeface="Arial"/>
              </a:rPr>
              <a:t>Енгибарян М.А</a:t>
            </a:r>
            <a:r>
              <a:rPr b="0" lang="en-US" sz="2000" spc="-1" strike="noStrike">
                <a:solidFill>
                  <a:srgbClr val="000000"/>
                </a:solidFill>
                <a:latin typeface="Arial"/>
              </a:rPr>
              <a:t> “</a:t>
            </a:r>
            <a:r>
              <a:rPr b="0" lang="ru-RU" sz="2000" spc="-1" strike="noStrike">
                <a:solidFill>
                  <a:srgbClr val="000000"/>
                </a:solidFill>
                <a:latin typeface="Arial"/>
              </a:rPr>
              <a:t>Эконномическая эффективность и надежность программных средств вычислительной техники</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Боэм Б.У </a:t>
            </a:r>
            <a:r>
              <a:rPr b="0" lang="en-US" sz="2000" spc="-1" strike="noStrike">
                <a:solidFill>
                  <a:srgbClr val="000000"/>
                </a:solidFill>
                <a:latin typeface="Arial"/>
              </a:rPr>
              <a:t>“</a:t>
            </a:r>
            <a:r>
              <a:rPr b="0" lang="ru-RU" sz="2000" spc="-1" strike="noStrike">
                <a:solidFill>
                  <a:srgbClr val="000000"/>
                </a:solidFill>
                <a:latin typeface="Arial"/>
              </a:rPr>
              <a:t>Инженерное проектирование ПО</a:t>
            </a:r>
            <a:r>
              <a:rPr b="0" lang="en-US" sz="2000" spc="-1" strike="noStrike">
                <a:solidFill>
                  <a:srgbClr val="000000"/>
                </a:solidFill>
                <a:latin typeface="Arial"/>
              </a:rPr>
              <a:t>”</a:t>
            </a:r>
            <a:r>
              <a:rPr b="0" lang="ru-RU" sz="2000" spc="-1" strike="noStrike">
                <a:solidFill>
                  <a:srgbClr val="000000"/>
                </a:solidFill>
                <a:latin typeface="Arial"/>
              </a:rPr>
              <a:t>. Под редакцией А.Красивог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33" dur="500"/>
                                        <p:tgtEl>
                                          <p:spTgt spid="62">
                                            <p:txEl>
                                              <p:pRg st="3" end="3"/>
                                            </p:txEl>
                                          </p:spTgt>
                                        </p:tgtEl>
                                      </p:cBhvr>
                                    </p:animEffect>
                                  </p:childTnLst>
                                </p:cTn>
                              </p:par>
                            </p:childTnLst>
                          </p:cTn>
                        </p:par>
                        <p:par>
                          <p:cTn id="34"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37"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44" name="PlaceHolder 2"/>
          <p:cNvSpPr>
            <a:spLocks noGrp="1"/>
          </p:cNvSpPr>
          <p:nvPr>
            <p:ph/>
          </p:nvPr>
        </p:nvSpPr>
        <p:spPr>
          <a:xfrm>
            <a:off x="457200" y="1052640"/>
            <a:ext cx="8229600" cy="540072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стойчивость программы</a:t>
            </a:r>
            <a:r>
              <a:rPr b="0" lang="ru-RU" sz="2000" spc="-1" strike="noStrike">
                <a:solidFill>
                  <a:srgbClr val="000000"/>
                </a:solidFill>
                <a:latin typeface="Arial"/>
              </a:rPr>
              <a:t> – способность выполнять свои задачи при ошибках аппаратуры и ввода данных.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дин из существенных факторов, влияющих на достижение надёжности средств ПО с учётом параметров окружающей среды является с</a:t>
            </a:r>
            <a:r>
              <a:rPr b="0" lang="ru-RU" sz="2000" spc="-1" strike="noStrike">
                <a:solidFill>
                  <a:srgbClr val="333399"/>
                </a:solidFill>
                <a:latin typeface="Arial"/>
              </a:rPr>
              <a:t>тоимость</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Сертификация ПО</a:t>
            </a:r>
            <a:r>
              <a:rPr b="0" lang="ru-RU" sz="2000" spc="-1" strike="noStrike">
                <a:solidFill>
                  <a:srgbClr val="000000"/>
                </a:solidFill>
                <a:latin typeface="Arial"/>
              </a:rPr>
              <a:t> – действия третьей стороны, сертификационного центра (лаборатории), доказывающие, что должным образом программная продукция (пакет программ, ПС), процесс сопровождения ПС соответствует конкретному, стандартному документу.</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стандартизации ПО – защита интересов пользователя, государственных интересов на основе реализации общих целей управления качеством на государственном уровне, повышение эффективности затрат в сфере разработки, создания и сопровождении ПО, повышение степени объективности при сравнительных оценках конкурентоспособности П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2000"/>
                                        <p:tgtEl>
                                          <p:spTgt spid="44">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fade" transition="in">
                                      <p:cBhvr additive="repl">
                                        <p:cTn id="11" dur="2000"/>
                                        <p:tgtEl>
                                          <p:spTgt spid="44">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fade" transition="in">
                                      <p:cBhvr additive="repl">
                                        <p:cTn id="15" dur="2000"/>
                                        <p:tgtEl>
                                          <p:spTgt spid="44">
                                            <p:txEl>
                                              <p:pRg st="3" end="3"/>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4">
                                            <p:txEl>
                                              <p:pRg st="5" end="5"/>
                                            </p:txEl>
                                          </p:spTgt>
                                        </p:tgtEl>
                                        <p:attrNameLst>
                                          <p:attrName>style.visibility</p:attrName>
                                        </p:attrNameLst>
                                      </p:cBhvr>
                                      <p:to>
                                        <p:strVal val="visible"/>
                                      </p:to>
                                    </p:set>
                                    <p:animEffect filter="fade" transition="in">
                                      <p:cBhvr additive="repl">
                                        <p:cTn id="19" dur="2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46" name="PlaceHolder 2"/>
          <p:cNvSpPr>
            <a:spLocks noGrp="1"/>
          </p:cNvSpPr>
          <p:nvPr>
            <p:ph/>
          </p:nvPr>
        </p:nvSpPr>
        <p:spPr>
          <a:xfrm>
            <a:off x="457200" y="981000"/>
            <a:ext cx="8229600" cy="5400720"/>
          </a:xfrm>
          <a:prstGeom prst="rect">
            <a:avLst/>
          </a:prstGeom>
          <a:noFill/>
          <a:ln w="0">
            <a:noFill/>
          </a:ln>
        </p:spPr>
        <p:txBody>
          <a:bodyPr anchor="t">
            <a:normAutofit fontScale="99000"/>
          </a:bodyPr>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рерывное развитие методов и средств технологии программирования предопределяет основное направление политики обеспечения качества в части применения методологических и программно-аппаратных средств испытаний: </a:t>
            </a:r>
            <a:endParaRPr b="0" lang="en-US" sz="2000" spc="-1" strike="noStrike">
              <a:solidFill>
                <a:srgbClr val="000000"/>
              </a:solidFill>
              <a:latin typeface="Arial"/>
            </a:endParaRPr>
          </a:p>
          <a:p>
            <a:pPr lvl="1" marL="735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lvl="1" marL="735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ы по подготовке и проведению сертификации включают:</a:t>
            </a:r>
            <a:endParaRPr b="0" lang="en-US" sz="2000" spc="-1" strike="noStrike">
              <a:solidFill>
                <a:srgbClr val="000000"/>
              </a:solidFill>
              <a:latin typeface="Arial"/>
            </a:endParaRPr>
          </a:p>
          <a:p>
            <a:pPr lvl="1" marL="735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бор или разработку нормативно-технических документов в соответствии с которыми будет проводиться сертификация;</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анавливаются схемы проведения сертификации: проведение типовых испытаний ПС и последующий надзор за стабильностью качества при производстве и тиражировании;</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ытание сертифицируемых ПС;</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дача сертификата соответствия и передача прав на использование знака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ведение работ по признанию, если сертификат выдан другим национальным или международным органом;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дзор за стабильностью качества тиражируемых ПС;</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ирование о результатах сертификации на основе ведения баз данных о сертифицированных ПС и методах (методиках) испытаний;</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5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ытания проводятся в испытательных лабораториях (центрах), аккредитованных и признанных по стандартам РФ.</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онная структура системы сертификации ПС ВТ включает:</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ый орган РФ по сертификаци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ый стандарт РФ , осуществляющий выполнение функций в соответствии с актами и положени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 по сертификации ПС ВТ, назначаемый и аккредитуемый национальным органом РФ по сертифика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ытательные центры (лаборатории) по сертификации, аккредитуемые национальным органом по сертифик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52"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лавная функция центра по сертификации называется ИЦС(ПС)—это  проведение испытаний ПС, совершенствование методов и средств испытаний, создание нормативно-технических и технических документов на  методы проведения испытаний оценки статистических статических и динамических характеристик программ,  степени их отлаженности , удобство пользовательского интерфейса, соответствие требованиям стандартов на языки программирования, на программную документацию в аспекте семантической полноты документации, её соответствие программной реализации, а так же на методы и средства повышающие объективность принятия решений о качестве ПС и целесообразности выдачи сертификат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Сертификация ПС проводится по схеме, предусматривающей проведение испытаний и последующий надзор за стабильностью качества производства и тиражирования П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54" name="PlaceHolder 2"/>
          <p:cNvSpPr>
            <a:spLocks noGrp="1"/>
          </p:cNvSpPr>
          <p:nvPr>
            <p:ph/>
          </p:nvPr>
        </p:nvSpPr>
        <p:spPr>
          <a:xfrm>
            <a:off x="457200" y="907560"/>
            <a:ext cx="8229600" cy="5218200"/>
          </a:xfrm>
          <a:prstGeom prst="rect">
            <a:avLst/>
          </a:prstGeom>
          <a:noFill/>
          <a:ln w="0">
            <a:noFill/>
          </a:ln>
        </p:spPr>
        <p:txBody>
          <a:bodyPr anchor="t">
            <a:normAutofit/>
          </a:bodyPr>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принципы и правила сертификации ПС должны соответствовать следующим документам:</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ожение о сертификации продукции, государственный стандарт РФ;</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ожению об аккредитации испытательных лабораторий</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56"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Цели и задачи ИЦС ПС.</a:t>
            </a:r>
            <a:endParaRPr b="0" lang="en-US" sz="2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здание и деятельность ИЦС ПС направлено на защиту интересов пользователя, государственных интересов на основе реализации общих целей управления качеством на государственном уровне, увеличение коэффициента повторного использования ПС, обеспечение конкурентоспособности ПС на мировом рынк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редмет деятельности ИЦС – организация и проведение сертификационных испытаний ПС на соответствие государственным стандартам и иной нормативно-технической документации в соответствии с разрабатываемым ИЦС руководством по качеств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Данная классификация детализируется с указанием сертификационных компонент ПС. Указываются компоненты трансляции, загрузки, редактирования связей и диагностик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56">
                                            <p:txEl>
                                              <p:pRg st="0" end="0"/>
                                            </p:txEl>
                                          </p:spTgt>
                                        </p:tgtEl>
                                        <p:attrNameLst>
                                          <p:attrName>style.visibility</p:attrName>
                                        </p:attrNameLst>
                                      </p:cBhvr>
                                      <p:to>
                                        <p:strVal val="visible"/>
                                      </p:to>
                                    </p:set>
                                    <p:animEffect filter="fade" transition="in">
                                      <p:cBhvr additive="repl">
                                        <p:cTn id="26"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91520" cy="417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екция №1</a:t>
            </a:r>
            <a:endParaRPr b="0" lang="en-US" sz="1600" spc="-1" strike="noStrike">
              <a:solidFill>
                <a:srgbClr val="000000"/>
              </a:solidFill>
              <a:latin typeface="Arial"/>
            </a:endParaRPr>
          </a:p>
        </p:txBody>
      </p:sp>
      <p:sp>
        <p:nvSpPr>
          <p:cNvPr id="58" name="PlaceHolder 2"/>
          <p:cNvSpPr>
            <a:spLocks noGrp="1"/>
          </p:cNvSpPr>
          <p:nvPr>
            <p:ph/>
          </p:nvPr>
        </p:nvSpPr>
        <p:spPr>
          <a:xfrm>
            <a:off x="457200" y="907560"/>
            <a:ext cx="8229600" cy="5218200"/>
          </a:xfrm>
          <a:prstGeom prst="rect">
            <a:avLst/>
          </a:prstGeom>
          <a:noFill/>
          <a:ln w="0">
            <a:noFill/>
          </a:ln>
        </p:spPr>
        <p:txBody>
          <a:bodyPr anchor="t">
            <a:normAutofit/>
          </a:bodyPr>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ология принятия решений по сертификации ПС основывается на оценке соответствия документам:</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ым стандартам на языки программирования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ым стандартам на программную документацию: необходимость и достаточность номенклатуры документов. Полнота и однозначность содержания документов;</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хническим условиям и другим документам на конкретные ПС;</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ующим международным стандартам</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2T11:57:35Z</dcterms:created>
  <dc:creator>JIuc'eHoK</dc:creator>
  <dc:description/>
  <dc:language>en-US</dc:language>
  <cp:lastModifiedBy>JIuc'eHoK</cp:lastModifiedBy>
  <dcterms:modified xsi:type="dcterms:W3CDTF">2008-11-27T21:15:16Z</dcterms:modified>
  <cp:revision>3</cp:revision>
  <dc:subject/>
  <dc:title>                                                                                                          Лекция №1</dc:title>
</cp:coreProperties>
</file>