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2F3-6C03-4FC3-9C1D-6C22FF94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4E-6400-44F2-A3B5-25BCDEA0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2D8-7C66-4CE1-BEB1-762F5D11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309-C000-4263-8DEA-92D19ADE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7CC2-1491-407F-9CFC-B3F20781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A2D42-801F-47EA-907A-BB24031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BA5D-9146-4FFA-86F2-E7965A8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D0837-822B-46FC-9037-D7DF1E6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3701-06F0-4391-A7F0-CA1E6B59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2DFD5-5B2B-4E56-96B5-5186D87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747C5-FA8E-4124-B24B-A4FCC5F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D3A-F86E-4370-9264-1A0FEAB2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2D0B7-4366-4F9F-ADF3-D75A667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798FD-96D2-480B-85CF-8C9A643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54CB6-A1C1-4369-9D17-999A939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ABB3D-AD6F-4E16-8778-90492AEA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6E535-6B3C-4FCE-ADB9-CE7FDBCD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56FE-55E4-4862-9A10-24C73BE5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E6B9-32E4-4390-9927-449DAF69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CE6F-DF24-48F8-8CBA-95F6A750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905D-9C6C-4299-9BEA-DFE792F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9E07-A507-41E4-93C9-75290FEF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9F8-2A75-4663-8405-45EC6BF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70F3-AB31-4517-BA55-960AD619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8AF5-DB86-44E6-9F26-D423B42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6FE8-328C-43E8-9607-AE91469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7E97-FA04-444C-9469-E26696B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CD44-ABFF-4ACC-9CAD-8E34F70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04B6-E383-429D-8B08-F38F92F5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CFE4-116C-4B56-8243-2C88C884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C2E8F-0C59-485D-A274-9F46C8A4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F6448-F871-417E-857C-34A69D20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26F67-3935-42E3-AD9A-A54F748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7C2-897B-4F8D-B90C-0DEEE3E2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0A7A7-21FF-4FA3-A50C-E62FAE55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C5D2F-AC0B-42D2-AEE2-87E058A4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62A67-C758-4EA3-A3AA-97691AF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EF1785-A68D-40E8-A11E-FB1F5DA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35687-F256-4DB0-AF4C-EABB41B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F6433-F757-42BE-BE3D-8D66B74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2BEF5-2D3F-49C0-A8A6-0F657C4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9D5BB-4450-4CB1-8ECD-7F975E42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9A5FD-BF7F-491B-9292-1E901DA6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D7EC-077B-4A67-B7B6-70F5C293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26B-3752-4473-897A-177DE50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327F-F410-4AB1-A442-EC9E635B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1DDC-69F1-4426-9609-45A355F4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2A3B-B354-4941-AAC8-252DAB6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15DB-5C8B-416B-A0CB-C7D4101A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614D-8803-4232-A821-F243A572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FE54-07CC-4E16-B290-1C71354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169D-A5A4-41E5-892D-8391B18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5985-35FB-46D3-86FD-13B8F9A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065F-F46C-4B9D-9777-421331BA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F0C6-2E78-4DD2-A6BF-184207DC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2C6-F250-402E-9C27-F0C3CB70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DE25-E04B-47BC-8DF3-929CC8F8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B8F-BD71-4118-BCC2-8F22126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23C-FF18-4245-9A76-75EBA25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22F-AC9C-43E7-B75F-6CF32CC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205-1A6D-41D5-9931-12EEC4F81A8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273E-A33E-4CD5-8AAD-0B8802A16A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E97-0C1C-4630-A179-61245D96AB9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301-B270-42D1-B05B-F08371F2160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66AE-1688-4567-8254-709EAE3E8C0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50720" y="993600"/>
            <a:ext cx="8321760" cy="242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57200" y="1600200"/>
          <a:ext cx="8305920" cy="4484520"/>
        </p:xfrm>
        <a:graphic>
          <a:graphicData uri="http://schemas.openxmlformats.org/drawingml/2006/table">
            <a:tbl>
              <a:tblPr/>
              <a:tblGrid>
                <a:gridCol w="1517760"/>
                <a:gridCol w="3740040"/>
                <a:gridCol w="3048120"/>
              </a:tblGrid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ероятность п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а вычис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огическая ошиб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ввода/вы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манипулирования да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сопря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определения дан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в базах дан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85840" y="146160"/>
            <a:ext cx="8407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дной из важнейших характеристик программного изделия является надёжнос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Надёжность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– свойство программного изделия сохранять работоспособность в течение определённого периода времени в определённых условиях эксплуатация с учётом последствий каждого отказа для пользовател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Работоспособным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называется такое состояние программного изделия, при котором оно способно выполнять заданные функции с параметрами, установленными требованиями ТЗ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переходом программного изделия в неработоспособное состояние связано событие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тказ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Причины отказа программы и технических систем различны. Если для технического средства причиной отказа может быть физический износ узлов и деталей, то программы ему не подвержены. Моральный износ, характерный для ПИ, не может быть причиной нарушения его работоспособ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Причиной отказа П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является невозможность его полной проверки в процессе тестирования и испытания. При эксплуатации ПИ в реальных условиях может возникнуть такая комбинация входных данных, которая вызывает отка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аким образом, работоспособность ПИ зависит от входной информации и чем ниже эта зависимость, тем выше уровень надёж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чиной отказа программного изделия являются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ошибк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которые могут быть вызван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нутренним свойством программного издел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еакцией программного изделия на изменение внешней среды функционировани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леднее значит, что даже при самом тщательном тестировании, если предположить, что удалось избавиться от внутренних ошибок, никогда нельзя с полной уверенностью утверждать, что в процессе эксплуатации программного изделия отказ не возникнет. Естественно, мы можем и должны повышать уровень надежности программного изделия, но достижений сто процентной надежности вне пределах возможног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чиной ошибок программного изделия является нарушение правильности перевода информации из одного представления в друго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здание программного изделия рассматривается как совокупность процессов перевода информации из одной формы представления в другую, с фиксацией множества промежуточных решений с участием специалистов различного профиля и квалифика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роме того, необходимо учитывать возможность взаимного перекрытия процессов и наличия циклов обратной связ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обходимо учитывать, что ошибки сделанные в процессе проектирования, могут быть обнаружены при программировании, тогда возникает необходимость возврата к предыдущему этапу и устранению ошибо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нообразие и сложность видов деятельности в процессе создания программного изделия приводит к появлению множества типов ошибок, которые нуждаются в систематиз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веденная ниже классификация ошибок по категориям основана на эмпирических данных, полученных при разработке различных программных издел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 категорией ошибок понимается видовое описание ошибок конкретных тип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олной классификации выделено более 100 категорий, объединенных в 20 класс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533520" y="1371600"/>
          <a:ext cx="8153280" cy="51814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дентифик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тег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А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А 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А 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вычислений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верно определяется общее число элемент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а в вычислении индек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В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В 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В 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огические ошибк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а в определении гран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огически неверное вет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С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С 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ввода/вывода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формация не выводи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D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D 0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шибки манипулирования данным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нные потеряны или не храня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2906640" y="2982960"/>
                <a:ext cx="27432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7" name="Rectangle 6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 сборке и анализе данных об ошибках придерживаются следующих прави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сли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общее число прогонов;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априори известное число типов, то определяется это функцией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2895480" y="2971800"/>
                <a:ext cx="27432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Rectangle 4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этой модели вероятность  должна оцениваться на основании априорной информации или данных предшествующего периода функционирования однотипных программ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457200" y="4191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ероятность выявления при тестировании ошибки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го тип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трин Борис Игоревич</dc:creator>
  <dc:description/>
  <cp:keywords>программное изделие надёжность корректность работоспособность отказ ошибка классификация ошибок</cp:keywords>
  <dc:language>en-US</dc:language>
  <cp:lastModifiedBy>Admin</cp:lastModifiedBy>
  <dcterms:modified xsi:type="dcterms:W3CDTF">2008-12-08T18:04:25Z</dcterms:modified>
  <cp:revision>11</cp:revision>
  <dc:subject>Метрология, стандартизация, сертификация и разработка программных средств </dc:subject>
  <dc:title>Надёжность программного изделия. Классификация ошиб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